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DC6-7FF7-460A-B0E2-ED5373B9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4DF-EC32-4707-9E6B-F9737E26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146-AAFE-497F-A058-366E8544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A88-36D5-4785-B778-8178ED1F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901-8F68-4618-B020-E0FB33C9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8022-9046-4A3C-B14D-ADD4834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19FB-BEBB-4C27-A3D0-6C1EA7C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C4B5-CEF9-41A0-8164-C47E381E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1C9-DDCD-487F-8BB1-415A40A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3375-F287-49F5-A941-C6DCCD4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CF6-FA90-4AE2-92D3-8F3FAA5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836-2528-489F-B183-8A51114B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CAEF-F3FC-4407-8936-CE28307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D8D7-0362-4A17-BDCF-92345F9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4A8-7295-4DA9-97C8-906F70CA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A8B-4D72-45D8-A909-2233AADA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77E-BA8B-437B-BBB2-60C2AFB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AAB-08B8-4425-8360-0B5B533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75E-0692-4A0D-98B8-B2D92D0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EC8-062B-446F-8F4C-C51A761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40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B36-8214-46BD-8DE3-7D7513F8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2E7-AA8B-4677-91E0-664BF4B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1C0-B7BB-453B-A028-CE63295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EBE-4D31-4B09-A176-DB2824A5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FA1-B583-4FE6-8D33-FB87B9C9AAA0}" type="datetime">
              <a:rPr b="0" lang="ko-KR" sz="1400" spc="-1" strike="noStrike">
                <a:solidFill>
                  <a:srgbClr val="000000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19320"/>
            <a:ext cx="8458200" cy="87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447920"/>
          </a:xfrm>
          <a:prstGeom prst="rect">
            <a:avLst/>
          </a:prstGeom>
          <a:solidFill>
            <a:srgbClr val="64b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93348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6248160"/>
            <a:ext cx="533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905-C697-4215-9B14-BA136E7458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534520" y="6553080"/>
            <a:ext cx="533160" cy="76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6" name="AutoShape 1027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7" name="AutoShape 1028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8" name="AutoShape 1029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9" name="AutoShape 1030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0" name="AutoShape 103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1" name="Rectangle 103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060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60c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FA63-7BA4-4F6E-9632-4539F2514B6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60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A55-392E-446F-8C28-D4753CFC1E8F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10 </a:t>
            </a: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장 사용자 인터페이스 개선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Radio Button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라디오 버튼 체크 박스와 유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하나의 버튼을 선택하게 되면 이전에 선택한 버튼을 선택 취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라디오 버튼을 활성화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객체에서 마우스 버튼을 클릭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5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2A6-4173-4EC7-A59A-C3EB2B20191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5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5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B74-594C-49EF-A84D-869690EEB98E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54" name="_x208455560" descr="EMB00001bd05fa3"/>
          <p:cNvPicPr/>
          <p:nvPr/>
        </p:nvPicPr>
        <p:blipFill>
          <a:blip r:embed="rId3"/>
          <a:stretch/>
        </p:blipFill>
        <p:spPr>
          <a:xfrm>
            <a:off x="617400" y="4441680"/>
            <a:ext cx="2814840" cy="1363680"/>
          </a:xfrm>
          <a:prstGeom prst="rect">
            <a:avLst/>
          </a:prstGeom>
          <a:ln w="0">
            <a:noFill/>
          </a:ln>
        </p:spPr>
      </p:pic>
      <p:pic>
        <p:nvPicPr>
          <p:cNvPr id="155" name="_x208453560" descr="EMB00001bd05fa4"/>
          <p:cNvPicPr/>
          <p:nvPr/>
        </p:nvPicPr>
        <p:blipFill>
          <a:blip r:embed="rId4"/>
          <a:stretch/>
        </p:blipFill>
        <p:spPr>
          <a:xfrm>
            <a:off x="3608280" y="4441680"/>
            <a:ext cx="3321000" cy="1363680"/>
          </a:xfrm>
          <a:prstGeom prst="rect">
            <a:avLst/>
          </a:prstGeom>
          <a:ln w="0">
            <a:noFill/>
          </a:ln>
        </p:spPr>
      </p:pic>
      <p:grpSp>
        <p:nvGrpSpPr>
          <p:cNvPr id="156" name="그룹 8"/>
          <p:cNvGrpSpPr/>
          <p:nvPr/>
        </p:nvGrpSpPr>
        <p:grpSpPr>
          <a:xfrm>
            <a:off x="7532640" y="3029040"/>
            <a:ext cx="1192320" cy="3336840"/>
            <a:chOff x="7532640" y="3029040"/>
            <a:chExt cx="1192320" cy="3336840"/>
          </a:xfrm>
        </p:grpSpPr>
        <p:pic>
          <p:nvPicPr>
            <p:cNvPr id="157" name="_x208454680" descr="EMB00001bd05f9f"/>
            <p:cNvPicPr/>
            <p:nvPr/>
          </p:nvPicPr>
          <p:blipFill>
            <a:blip r:embed="rId5"/>
            <a:stretch/>
          </p:blipFill>
          <p:spPr>
            <a:xfrm>
              <a:off x="7532640" y="3029040"/>
              <a:ext cx="119232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직사각형 10"/>
            <p:cNvSpPr/>
            <p:nvPr/>
          </p:nvSpPr>
          <p:spPr>
            <a:xfrm>
              <a:off x="7563240" y="3762720"/>
              <a:ext cx="1130760" cy="18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heck box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라디오 버튼 체크 박스와 유사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상태에 대한 선택 유무만을 알 수 있는 아이콘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체크 박스가 체크 되어야만 활성화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6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C05-9EE4-46C5-B862-99FC0D85DB0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6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6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0F5-E0F4-4B8D-9F3C-9AB7AF68B520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164" name="그룹 6"/>
          <p:cNvGrpSpPr/>
          <p:nvPr/>
        </p:nvGrpSpPr>
        <p:grpSpPr>
          <a:xfrm>
            <a:off x="6694560" y="3164040"/>
            <a:ext cx="1054080" cy="3141360"/>
            <a:chOff x="6694560" y="3164040"/>
            <a:chExt cx="1054080" cy="3141360"/>
          </a:xfrm>
        </p:grpSpPr>
        <p:pic>
          <p:nvPicPr>
            <p:cNvPr id="165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694560" y="3164040"/>
              <a:ext cx="105408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직사각형 8"/>
            <p:cNvSpPr/>
            <p:nvPr/>
          </p:nvSpPr>
          <p:spPr>
            <a:xfrm>
              <a:off x="6694560" y="4070880"/>
              <a:ext cx="999720" cy="17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167" name="_x208455240" descr="EMB00001bd05fa5"/>
          <p:cNvPicPr/>
          <p:nvPr/>
        </p:nvPicPr>
        <p:blipFill>
          <a:blip r:embed="rId4"/>
          <a:stretch/>
        </p:blipFill>
        <p:spPr>
          <a:xfrm>
            <a:off x="1963800" y="3613320"/>
            <a:ext cx="2608200" cy="1271520"/>
          </a:xfrm>
          <a:prstGeom prst="rect">
            <a:avLst/>
          </a:prstGeom>
          <a:ln w="0">
            <a:noFill/>
          </a:ln>
        </p:spPr>
      </p:pic>
      <p:pic>
        <p:nvPicPr>
          <p:cNvPr id="168" name="_x208453720" descr="EMB00001bd05fa6"/>
          <p:cNvPicPr/>
          <p:nvPr/>
        </p:nvPicPr>
        <p:blipFill>
          <a:blip r:embed="rId5"/>
          <a:stretch/>
        </p:blipFill>
        <p:spPr>
          <a:xfrm>
            <a:off x="1963800" y="5018040"/>
            <a:ext cx="30938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Edit Tex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 구성 요소를 입력하거나 텍스트 문자열을 수정 할 수 있도록 하는  필드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입력으로 텍스트를 편집 할 때 텍스트를 사용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용자가 숫자를 입력하게 되면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에서 입력은 문자로 인식되어 숫자로 변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7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D8CC-9E91-48C2-9C70-F470D603C984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7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002C-463A-4388-BC5A-4A120061C76D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74" name="_x208453160" descr="EMB00001bd05fa7"/>
          <p:cNvPicPr/>
          <p:nvPr/>
        </p:nvPicPr>
        <p:blipFill>
          <a:blip r:embed="rId3"/>
          <a:stretch/>
        </p:blipFill>
        <p:spPr>
          <a:xfrm>
            <a:off x="934920" y="4822920"/>
            <a:ext cx="2541600" cy="1353960"/>
          </a:xfrm>
          <a:prstGeom prst="rect">
            <a:avLst/>
          </a:prstGeom>
          <a:ln w="0">
            <a:noFill/>
          </a:ln>
        </p:spPr>
      </p:pic>
      <p:pic>
        <p:nvPicPr>
          <p:cNvPr id="175" name="_x208454040" descr="EMB00001bd05fa8"/>
          <p:cNvPicPr/>
          <p:nvPr/>
        </p:nvPicPr>
        <p:blipFill>
          <a:blip r:embed="rId4"/>
          <a:stretch/>
        </p:blipFill>
        <p:spPr>
          <a:xfrm>
            <a:off x="3768840" y="4827600"/>
            <a:ext cx="3228840" cy="1344600"/>
          </a:xfrm>
          <a:prstGeom prst="rect">
            <a:avLst/>
          </a:prstGeom>
          <a:ln w="0">
            <a:noFill/>
          </a:ln>
        </p:spPr>
      </p:pic>
      <p:grpSp>
        <p:nvGrpSpPr>
          <p:cNvPr id="176" name="그룹 11"/>
          <p:cNvGrpSpPr/>
          <p:nvPr/>
        </p:nvGrpSpPr>
        <p:grpSpPr>
          <a:xfrm>
            <a:off x="7405560" y="3846600"/>
            <a:ext cx="1052640" cy="2544840"/>
            <a:chOff x="7405560" y="3846600"/>
            <a:chExt cx="1052640" cy="2544840"/>
          </a:xfrm>
        </p:grpSpPr>
        <p:pic>
          <p:nvPicPr>
            <p:cNvPr id="177" name="_x208454680" descr="EMB00001bd05f9f"/>
            <p:cNvPicPr/>
            <p:nvPr/>
          </p:nvPicPr>
          <p:blipFill>
            <a:blip r:embed="rId5"/>
            <a:stretch/>
          </p:blipFill>
          <p:spPr>
            <a:xfrm>
              <a:off x="7405560" y="3846600"/>
              <a:ext cx="105264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직사각형 13"/>
            <p:cNvSpPr/>
            <p:nvPr/>
          </p:nvSpPr>
          <p:spPr>
            <a:xfrm>
              <a:off x="7407720" y="4731480"/>
              <a:ext cx="998280" cy="13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tatic Text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통상적으로 사용자에게  다른 컨트롤 레이블의 결과를 화면에 나타내기 위해서 사용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슬라이더와 연관된 값을 나타냄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8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40E-FD70-453F-B6A0-A3409CCF40FC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84A-547B-4715-BACC-0672A2879B67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184" name="그룹 6"/>
          <p:cNvGrpSpPr/>
          <p:nvPr/>
        </p:nvGrpSpPr>
        <p:grpSpPr>
          <a:xfrm>
            <a:off x="6703920" y="2633760"/>
            <a:ext cx="1297080" cy="3614760"/>
            <a:chOff x="6703920" y="2633760"/>
            <a:chExt cx="1297080" cy="3614760"/>
          </a:xfrm>
        </p:grpSpPr>
        <p:pic>
          <p:nvPicPr>
            <p:cNvPr id="185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703920" y="2633760"/>
              <a:ext cx="129708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직사각형 8"/>
            <p:cNvSpPr/>
            <p:nvPr/>
          </p:nvSpPr>
          <p:spPr>
            <a:xfrm>
              <a:off x="6738120" y="4130640"/>
              <a:ext cx="1230120" cy="196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187" name="_x208453320" descr="EMB00001bd05fa9"/>
          <p:cNvPicPr/>
          <p:nvPr/>
        </p:nvPicPr>
        <p:blipFill>
          <a:blip r:embed="rId4"/>
          <a:stretch/>
        </p:blipFill>
        <p:spPr>
          <a:xfrm>
            <a:off x="1544760" y="3346560"/>
            <a:ext cx="2543040" cy="1357200"/>
          </a:xfrm>
          <a:prstGeom prst="rect">
            <a:avLst/>
          </a:prstGeom>
          <a:ln w="0">
            <a:noFill/>
          </a:ln>
        </p:spPr>
      </p:pic>
      <p:pic>
        <p:nvPicPr>
          <p:cNvPr id="188" name="_x208453640" descr="EMB00001bd05faa"/>
          <p:cNvPicPr/>
          <p:nvPr/>
        </p:nvPicPr>
        <p:blipFill>
          <a:blip r:embed="rId5"/>
          <a:stretch/>
        </p:blipFill>
        <p:spPr>
          <a:xfrm>
            <a:off x="1544760" y="4933800"/>
            <a:ext cx="31590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Pop-Up Menu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팝업 선택의 목록을 사용자가 화살표를 클릭 할 때 활성화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9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3E4-5344-4F38-837D-22B9916247B0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9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9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4FC-73BF-4B72-9180-CCEBD0CD91E8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194" name="그룹 6"/>
          <p:cNvGrpSpPr/>
          <p:nvPr/>
        </p:nvGrpSpPr>
        <p:grpSpPr>
          <a:xfrm>
            <a:off x="6948360" y="2629080"/>
            <a:ext cx="1273320" cy="3574800"/>
            <a:chOff x="6948360" y="2629080"/>
            <a:chExt cx="1273320" cy="3574800"/>
          </a:xfrm>
        </p:grpSpPr>
        <p:pic>
          <p:nvPicPr>
            <p:cNvPr id="195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948360" y="2629080"/>
              <a:ext cx="1273320" cy="35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직사각형 8"/>
            <p:cNvSpPr/>
            <p:nvPr/>
          </p:nvSpPr>
          <p:spPr>
            <a:xfrm>
              <a:off x="6978600" y="4318920"/>
              <a:ext cx="1207800" cy="194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197" name="_x208454600" descr="EMB00001bd05fab"/>
          <p:cNvPicPr/>
          <p:nvPr/>
        </p:nvPicPr>
        <p:blipFill>
          <a:blip r:embed="rId4"/>
          <a:stretch/>
        </p:blipFill>
        <p:spPr>
          <a:xfrm>
            <a:off x="685800" y="3032280"/>
            <a:ext cx="2179800" cy="1706400"/>
          </a:xfrm>
          <a:prstGeom prst="rect">
            <a:avLst/>
          </a:prstGeom>
          <a:ln w="0">
            <a:noFill/>
          </a:ln>
        </p:spPr>
      </p:pic>
      <p:pic>
        <p:nvPicPr>
          <p:cNvPr id="198" name="_x208454600" descr="EMB00001bd05fac"/>
          <p:cNvPicPr/>
          <p:nvPr/>
        </p:nvPicPr>
        <p:blipFill>
          <a:blip r:embed="rId5"/>
          <a:stretch/>
        </p:blipFill>
        <p:spPr>
          <a:xfrm>
            <a:off x="3027240" y="3886200"/>
            <a:ext cx="3448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List Box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하나 이상의 아이템을 선택 할 수 있도록 아이템 리스트를 표시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0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6241-C404-4B76-AE14-BB27E988034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0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0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C85F-679C-4D68-97C7-8DDB37A37151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204" name="그룹 6"/>
          <p:cNvGrpSpPr/>
          <p:nvPr/>
        </p:nvGrpSpPr>
        <p:grpSpPr>
          <a:xfrm>
            <a:off x="6472080" y="2649600"/>
            <a:ext cx="1216080" cy="3598920"/>
            <a:chOff x="6472080" y="2649600"/>
            <a:chExt cx="1216080" cy="3598920"/>
          </a:xfrm>
        </p:grpSpPr>
        <p:pic>
          <p:nvPicPr>
            <p:cNvPr id="205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472080" y="2649600"/>
              <a:ext cx="121608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직사각형 8"/>
            <p:cNvSpPr/>
            <p:nvPr/>
          </p:nvSpPr>
          <p:spPr>
            <a:xfrm>
              <a:off x="6525720" y="4613760"/>
              <a:ext cx="1153440" cy="195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207" name="_x208455240" descr="EMB00001bd05fad"/>
          <p:cNvPicPr/>
          <p:nvPr/>
        </p:nvPicPr>
        <p:blipFill>
          <a:blip r:embed="rId4"/>
          <a:stretch/>
        </p:blipFill>
        <p:spPr>
          <a:xfrm>
            <a:off x="1562040" y="3063960"/>
            <a:ext cx="4032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oggle Button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토글 버튼은 활성화를 생성하고 그들이 또는 해제 여부를 나타냄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1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9120-1A8A-4B37-84A6-6DC72B3CF1FE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1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1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8E8-6027-4AD2-BDD6-B6E8BBB34F9B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213" name="그룹 6"/>
          <p:cNvGrpSpPr/>
          <p:nvPr/>
        </p:nvGrpSpPr>
        <p:grpSpPr>
          <a:xfrm>
            <a:off x="6553080" y="2630520"/>
            <a:ext cx="1393920" cy="3717720"/>
            <a:chOff x="6553080" y="2630520"/>
            <a:chExt cx="1393920" cy="3717720"/>
          </a:xfrm>
        </p:grpSpPr>
        <p:pic>
          <p:nvPicPr>
            <p:cNvPr id="214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553080" y="2630520"/>
              <a:ext cx="1393920" cy="37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직사각형 8"/>
            <p:cNvSpPr/>
            <p:nvPr/>
          </p:nvSpPr>
          <p:spPr>
            <a:xfrm>
              <a:off x="6602400" y="4885560"/>
              <a:ext cx="1321920" cy="202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216" name="_x208453480" descr="EMB00001bd05fae"/>
          <p:cNvPicPr/>
          <p:nvPr/>
        </p:nvPicPr>
        <p:blipFill>
          <a:blip r:embed="rId4"/>
          <a:stretch/>
        </p:blipFill>
        <p:spPr>
          <a:xfrm>
            <a:off x="1600200" y="2901960"/>
            <a:ext cx="3048120" cy="1587600"/>
          </a:xfrm>
          <a:prstGeom prst="rect">
            <a:avLst/>
          </a:prstGeom>
          <a:ln w="0">
            <a:noFill/>
          </a:ln>
        </p:spPr>
      </p:pic>
      <p:pic>
        <p:nvPicPr>
          <p:cNvPr id="217" name="_x208453560" descr="EMB00001bd05faf"/>
          <p:cNvPicPr/>
          <p:nvPr/>
        </p:nvPicPr>
        <p:blipFill>
          <a:blip r:embed="rId5"/>
          <a:stretch/>
        </p:blipFill>
        <p:spPr>
          <a:xfrm>
            <a:off x="1600200" y="4673520"/>
            <a:ext cx="3782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Table Button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테이블 구성 요소를 나타냄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2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4F3C-0907-40CD-A891-279037FCC7D9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2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2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D7A-F067-4251-A144-A1A8B43A05EC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223" name="그룹 6"/>
          <p:cNvGrpSpPr/>
          <p:nvPr/>
        </p:nvGrpSpPr>
        <p:grpSpPr>
          <a:xfrm>
            <a:off x="6964200" y="2346480"/>
            <a:ext cx="1393920" cy="3717720"/>
            <a:chOff x="6964200" y="2346480"/>
            <a:chExt cx="1393920" cy="3717720"/>
          </a:xfrm>
        </p:grpSpPr>
        <p:pic>
          <p:nvPicPr>
            <p:cNvPr id="224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964200" y="2346480"/>
              <a:ext cx="1393920" cy="37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직사각형 8"/>
            <p:cNvSpPr/>
            <p:nvPr/>
          </p:nvSpPr>
          <p:spPr>
            <a:xfrm>
              <a:off x="7006320" y="4817880"/>
              <a:ext cx="1321920" cy="202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226" name="_x208455560" descr="EMB00001bd05fb0"/>
          <p:cNvPicPr/>
          <p:nvPr/>
        </p:nvPicPr>
        <p:blipFill>
          <a:blip r:embed="rId4"/>
          <a:stretch/>
        </p:blipFill>
        <p:spPr>
          <a:xfrm>
            <a:off x="1484280" y="2792520"/>
            <a:ext cx="4788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Axes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화면에 디스플레이될 수 있도록 화면창을 활성화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29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BAB-C67C-44A7-95F2-AA15415DBCD1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3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31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38B0-BAF6-455F-B7E3-6901505259E2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232" name="그룹 6"/>
          <p:cNvGrpSpPr/>
          <p:nvPr/>
        </p:nvGrpSpPr>
        <p:grpSpPr>
          <a:xfrm>
            <a:off x="6488280" y="2625840"/>
            <a:ext cx="1393560" cy="3717720"/>
            <a:chOff x="6488280" y="2625840"/>
            <a:chExt cx="1393560" cy="3717720"/>
          </a:xfrm>
        </p:grpSpPr>
        <p:pic>
          <p:nvPicPr>
            <p:cNvPr id="233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488280" y="2625840"/>
              <a:ext cx="1393560" cy="37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직사각형 8"/>
            <p:cNvSpPr/>
            <p:nvPr/>
          </p:nvSpPr>
          <p:spPr>
            <a:xfrm>
              <a:off x="6488280" y="5356080"/>
              <a:ext cx="1321560" cy="202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235" name="_x208453880" descr="EMB00001bd05fb1"/>
          <p:cNvPicPr/>
          <p:nvPr/>
        </p:nvPicPr>
        <p:blipFill>
          <a:blip r:embed="rId4"/>
          <a:stretch/>
        </p:blipFill>
        <p:spPr>
          <a:xfrm>
            <a:off x="1582560" y="2722680"/>
            <a:ext cx="38163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Panel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용자에서 보다 쉽게 선택할 수 있도록 각종 버튼을 모아서 나타냄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38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E697-5325-4D1B-87AB-5B49A479B41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39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40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E61-B856-4690-A97C-35770FC04766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grpSp>
        <p:nvGrpSpPr>
          <p:cNvPr id="241" name="그룹 6"/>
          <p:cNvGrpSpPr/>
          <p:nvPr/>
        </p:nvGrpSpPr>
        <p:grpSpPr>
          <a:xfrm>
            <a:off x="6842160" y="2689200"/>
            <a:ext cx="1393920" cy="3718080"/>
            <a:chOff x="6842160" y="2689200"/>
            <a:chExt cx="1393920" cy="3718080"/>
          </a:xfrm>
        </p:grpSpPr>
        <p:pic>
          <p:nvPicPr>
            <p:cNvPr id="242" name="_x208454680" descr="EMB00001bd05f9f"/>
            <p:cNvPicPr/>
            <p:nvPr/>
          </p:nvPicPr>
          <p:blipFill>
            <a:blip r:embed="rId3"/>
            <a:stretch/>
          </p:blipFill>
          <p:spPr>
            <a:xfrm>
              <a:off x="6842160" y="2689200"/>
              <a:ext cx="1393920" cy="37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직사각형 8"/>
            <p:cNvSpPr/>
            <p:nvPr/>
          </p:nvSpPr>
          <p:spPr>
            <a:xfrm>
              <a:off x="6878160" y="5643000"/>
              <a:ext cx="1321920" cy="202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  <p:pic>
        <p:nvPicPr>
          <p:cNvPr id="244" name="_x208454760" descr="EMB00001bd05fb2"/>
          <p:cNvPicPr/>
          <p:nvPr/>
        </p:nvPicPr>
        <p:blipFill>
          <a:blip r:embed="rId4"/>
          <a:stretch/>
        </p:blipFill>
        <p:spPr>
          <a:xfrm>
            <a:off x="1585800" y="2979720"/>
            <a:ext cx="3456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학습 목표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00200"/>
            <a:ext cx="7918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대화 상자를 이용한 데이터 입력을 이해한다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슬라이터 컨트롤을 이용한 데이터 입력을 이해한다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마우스를 이용한 데이터 입력을 이해한다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97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C4F8-28EF-49B6-81EF-3DF72264FDD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98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99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A847-658C-4EC8-8E44-F956A2D9450B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이미지 디스플레이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그리창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푸시버튼을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창에 배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47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8051-1718-4CA4-A52F-C4F6760C7F7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48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49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6C4-F2FC-44A7-B79E-7F31B3AE497B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50" name="_x208455240" descr="EMB00001bd05fb3"/>
          <p:cNvPicPr/>
          <p:nvPr/>
        </p:nvPicPr>
        <p:blipFill>
          <a:blip r:embed="rId2"/>
          <a:stretch/>
        </p:blipFill>
        <p:spPr>
          <a:xfrm>
            <a:off x="1787400" y="2641680"/>
            <a:ext cx="51436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그림창의 속성 변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(tag : Img_display)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53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20C2-11CB-4528-88F3-ABFD8D75A6D2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5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55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8F24-1B8D-457A-884F-4B747D9902D0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56" name="_x208454840" descr="EMB00001bd05fb4"/>
          <p:cNvPicPr/>
          <p:nvPr/>
        </p:nvPicPr>
        <p:blipFill>
          <a:blip r:embed="rId1"/>
          <a:stretch/>
        </p:blipFill>
        <p:spPr>
          <a:xfrm>
            <a:off x="1638360" y="2119320"/>
            <a:ext cx="4443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푸시 버튼 속성 변경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ag : pb_load, string : Load Image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59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06C0-D32D-4070-B967-AE80E85D7514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6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61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0243-2039-44F4-9CF8-BE243319A5FE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62" name="_x208454600" descr="EMB00001bd05fb5"/>
          <p:cNvPicPr/>
          <p:nvPr/>
        </p:nvPicPr>
        <p:blipFill>
          <a:blip r:embed="rId1"/>
          <a:stretch/>
        </p:blipFill>
        <p:spPr>
          <a:xfrm>
            <a:off x="1833480" y="2624040"/>
            <a:ext cx="629280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변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(string --&gt;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빈공간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푸시 버튼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6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E62B-0040-4DF4-A6BF-A7491E694BD6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6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6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D49-2A80-42B0-927E-F7AD69B14BE8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68" name="직사각형 6"/>
          <p:cNvSpPr/>
          <p:nvPr/>
        </p:nvSpPr>
        <p:spPr>
          <a:xfrm>
            <a:off x="1093680" y="2762280"/>
            <a:ext cx="7632720" cy="208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function pb_load_Callback(hObject, eventdata, handles)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[filename, pathname] = uigetfile({'*.bmp';'*.jpg';'*.gif';'*.*'}, 'Pick an Image File'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img=imread([pathname,filename]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set(handles.edit1,'String',[pathname,filename]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axes(handles.img_display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imagesc(img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set(handles.img_display,'Visible','off'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guidata(hObject, handles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실행 결과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7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31C-F709-4C91-BDA2-6213A9802999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7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7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554-0997-4E2A-A8EA-DF0FF4B4C034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74" name="_x208450600" descr="EMB00001bd05fb6"/>
          <p:cNvPicPr/>
          <p:nvPr/>
        </p:nvPicPr>
        <p:blipFill>
          <a:blip r:embed="rId1"/>
          <a:stretch/>
        </p:blipFill>
        <p:spPr>
          <a:xfrm>
            <a:off x="1630440" y="2127240"/>
            <a:ext cx="4389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산술 연산 적용 결과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그리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정적 텍스트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창에 배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77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162-BCD7-49BC-9E13-42423E36A6E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78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D4D-F020-45E9-9449-E1458177C472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81" name="_x63702960" descr="EMB00000d541f60"/>
          <p:cNvPicPr/>
          <p:nvPr/>
        </p:nvPicPr>
        <p:blipFill>
          <a:blip r:embed="rId2"/>
          <a:stretch/>
        </p:blipFill>
        <p:spPr>
          <a:xfrm>
            <a:off x="2290680" y="2955960"/>
            <a:ext cx="4583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정적 텍스트 속성 변경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ext1 : string -&gt;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덧셈 연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ext2 : string -&gt;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뺄셈 연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ext3 : string -&gt;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곱셈 연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text4 : string -&gt;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나눗셈 연산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변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(string --&gt;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빈 공간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첫 번째 그림창에 원본 영상을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84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B93-6C3F-4395-92D4-0BFD3370D85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85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86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64D-8197-4DCC-99E5-A58C7BFCD786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87" name="직사각형 6"/>
          <p:cNvSpPr/>
          <p:nvPr/>
        </p:nvSpPr>
        <p:spPr>
          <a:xfrm>
            <a:off x="1952640" y="4854600"/>
            <a:ext cx="5900760" cy="1317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function add_OpeningFcn(hObject, eventdata, handles, varargin)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handles.I = imread('cameraman.tif'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axes(handles.axes1);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60c"/>
                </a:solidFill>
                <a:latin typeface="Times New Roman"/>
              </a:rPr>
              <a:t>imshow(J)</a:t>
            </a:r>
            <a:endParaRPr b="0" lang="en-US" sz="16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덧셈 연산에 대한 산술 연산 결과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9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14F3-8C81-4E3F-8B83-3DDAC892A4D9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9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9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429-0603-4866-9596-C130370C6081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93" name="직사각형 6"/>
          <p:cNvSpPr/>
          <p:nvPr/>
        </p:nvSpPr>
        <p:spPr>
          <a:xfrm>
            <a:off x="1943280" y="2494080"/>
            <a:ext cx="5902200" cy="1376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edit1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=str2num(get(handles.edit1, 'String')); 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문자를 숫자로 변경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DDJ=imadd(J,A);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덧셈 연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3);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출력할 그림창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ADDJ,[]);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영상 디스플레이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2021040" y="3537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295" name="_x63703920" descr="EMB00000d541f5c"/>
          <p:cNvPicPr/>
          <p:nvPr/>
        </p:nvPicPr>
        <p:blipFill>
          <a:blip r:embed="rId1"/>
          <a:stretch/>
        </p:blipFill>
        <p:spPr>
          <a:xfrm>
            <a:off x="3225960" y="3967200"/>
            <a:ext cx="3552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뺄셈 연산에 대한 산술 연산 결과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298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DCB-DDAA-4726-BE24-7B1C25BAF85F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299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0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7BB8-0B6E-421E-9E29-1205D1EBE67E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1" name="직사각형 6"/>
          <p:cNvSpPr/>
          <p:nvPr/>
        </p:nvSpPr>
        <p:spPr>
          <a:xfrm>
            <a:off x="1943280" y="2494080"/>
            <a:ext cx="5902200" cy="1376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edit2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B=str2num(get(handles.edit2, 'String')); 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문자를 숫자로 변경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ubJ=imsubtract(J,B);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뺄셈 연산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3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subJ,[]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943280" y="34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03" name="_x63702640" descr="EMB00000d541f5d"/>
          <p:cNvPicPr/>
          <p:nvPr/>
        </p:nvPicPr>
        <p:blipFill>
          <a:blip r:embed="rId1"/>
          <a:stretch/>
        </p:blipFill>
        <p:spPr>
          <a:xfrm>
            <a:off x="2738520" y="3946680"/>
            <a:ext cx="36669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곱셈 연산에 대한 산술 연산 결과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06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80AE-B7A8-4E4E-A9D6-8404BCF0CBFF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7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8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FC0-9AB8-4309-A818-9EF41C6ABD06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09" name="직사각형 6"/>
          <p:cNvSpPr/>
          <p:nvPr/>
        </p:nvSpPr>
        <p:spPr>
          <a:xfrm>
            <a:off x="1943280" y="2494080"/>
            <a:ext cx="5902200" cy="1376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edit3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C=str2num(get(handles.edit3, 'String'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multJ=immultiply(J,C); 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곱셈 연산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3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multJ,[]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943280" y="34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590920" y="34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12" name="_x63703760" descr="EMB00000d541f61"/>
          <p:cNvPicPr/>
          <p:nvPr/>
        </p:nvPicPr>
        <p:blipFill>
          <a:blip r:embed="rId1"/>
          <a:stretch/>
        </p:blipFill>
        <p:spPr>
          <a:xfrm>
            <a:off x="2733840" y="3952800"/>
            <a:ext cx="36763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B2F-9CF1-4712-BD4E-5DA385C22A2C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5BB-DD89-4016-91E6-B9277F1128AE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사용자 인터페이스 개선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 수행중에 동적으로 데이터를 입력하거나 프로그램 진행 상태 등을 출력 함으로써 사용자 인터페이스를 개선할 수 있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이를 위한 여러 가지 방법을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MFC(Microsoft Foundation Class)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에서 제공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본 장에서는 이들중 다음과 같은 방법을 활용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대화 상자를 이용한 데이터 입력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슬라이더 컨트롤을 이용한 데이터 입력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마우스 입력 활용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나눗셈 연산에 대한 산술 연산 결과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1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DA2-CC8F-4D40-8EEA-65D7D5A04557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222-D04A-49B1-91E2-B6FE64063BD4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8" name="직사각형 6"/>
          <p:cNvSpPr/>
          <p:nvPr/>
        </p:nvSpPr>
        <p:spPr>
          <a:xfrm>
            <a:off x="1943280" y="2494080"/>
            <a:ext cx="5902200" cy="1376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edit4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D=str2num(get(handles.edit4, 'String'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divJ=imdivide(J,D); 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나눗셈 연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3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divJ,[]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943280" y="34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590920" y="34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22" name="_x63704000" descr="EMB00000d541f62"/>
          <p:cNvPicPr/>
          <p:nvPr/>
        </p:nvPicPr>
        <p:blipFill>
          <a:blip r:embed="rId1"/>
          <a:stretch/>
        </p:blipFill>
        <p:spPr>
          <a:xfrm>
            <a:off x="2687760" y="3889440"/>
            <a:ext cx="3768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412-493D-4E98-8017-C3FD80DB15DF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2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25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8A7-90CF-4B6E-A627-9E2815832A89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슬라이더 컨트롤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슬라이더 컨트롤을 이용하여 산술 덧셈 기능을 개선하는 수행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슬라이더 컨트롤은 슬라이더를 움직이는 즉시 영상처리 함수가 수행되도록 할 수 있음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슬라이더 컨트롤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슬라이더 컨트롤을 활용한 영상의 각도 변화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그림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슬라이더 컨트롤 버튼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창에 배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3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7854-EF55-4CE4-B35C-872E32078ECA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3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3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83EA-059A-4632-86FC-DE3EB3618F52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34" name="_x63704320" descr="EMB00000d541f5e"/>
          <p:cNvPicPr/>
          <p:nvPr/>
        </p:nvPicPr>
        <p:blipFill>
          <a:blip r:embed="rId4"/>
          <a:stretch/>
        </p:blipFill>
        <p:spPr>
          <a:xfrm>
            <a:off x="2205000" y="3070080"/>
            <a:ext cx="41673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슬라이더 컨트롤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변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(string --&gt;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빈공간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슬라이더 편집기 변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(max -&gt; 360)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첫 번째 그림창에 원본 영상을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37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7EB8-C494-4AF5-AE8B-ECA01D07EFBF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38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39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627-663E-4A4A-B9F2-6332F918A14B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40" name="직사각형 6"/>
          <p:cNvSpPr/>
          <p:nvPr/>
        </p:nvSpPr>
        <p:spPr>
          <a:xfrm>
            <a:off x="1935000" y="3376440"/>
            <a:ext cx="5902560" cy="117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add_OpeningFcn(hObject, eventdata, handles, varargin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handles.I = imread('cameraman.tif'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1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J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슬라이더 컨트롤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텍스트 편집기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callback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함수 편집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슬라이더 컨트롤을 이용한 영상 회전 디스플레이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43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9A3-4535-4B32-8353-48C43EB7E9D6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4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45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FD5-EF15-4ECE-8F14-1E39B2DD3285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46" name="직사각형 6"/>
          <p:cNvSpPr/>
          <p:nvPr/>
        </p:nvSpPr>
        <p:spPr>
          <a:xfrm>
            <a:off x="1960560" y="2523960"/>
            <a:ext cx="5902200" cy="1590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slider1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ngle = round(get(hObject,'Value') 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1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imrotate(J,angle),findobj(hObject,'Tag','axes1'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et(handles.edit1, 'String'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et(handles.edit1,'String',angle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48" name="_x63703520" descr="EMB00000d541f5f"/>
          <p:cNvPicPr/>
          <p:nvPr/>
        </p:nvPicPr>
        <p:blipFill>
          <a:blip r:embed="rId1"/>
          <a:stretch/>
        </p:blipFill>
        <p:spPr>
          <a:xfrm>
            <a:off x="3440160" y="4176720"/>
            <a:ext cx="29415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190-8F1A-4B05-BEDE-CC4AF5430EC2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1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B57-AF4D-4E84-9730-E3F08CD0E6D6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 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 수행시에 마우스의 위치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버튼의 상태등을 입력으로 활용할 수 있음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마우스 입력을 워핑 함수에 적용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	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A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점에서 마우스 버튼을 누르고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B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점으로 이동후에 마우스 버튼을 놓으면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A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점이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B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점으로 이동하도록 워핑 수행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354" name="Picture 5" descr="UNI00000a440139"/>
          <p:cNvPicPr/>
          <p:nvPr/>
        </p:nvPicPr>
        <p:blipFill>
          <a:blip r:embed="rId3"/>
          <a:stretch/>
        </p:blipFill>
        <p:spPr>
          <a:xfrm>
            <a:off x="1933560" y="4057560"/>
            <a:ext cx="5148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A97E-8C6C-4336-86AE-7A80A69DE310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179-E59B-43BB-94C0-01564EFFC7B2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사용자가 입력한 직선으로부터 제어선을 생성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PA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분의 길이는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AB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분의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1/2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360" name="Picture 5" descr="UNI00000a44013d"/>
          <p:cNvPicPr/>
          <p:nvPr/>
        </p:nvPicPr>
        <p:blipFill>
          <a:blip r:embed="rId2"/>
          <a:stretch/>
        </p:blipFill>
        <p:spPr>
          <a:xfrm>
            <a:off x="1376280" y="2868480"/>
            <a:ext cx="6832800" cy="24577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6"/>
          <p:cNvSpPr/>
          <p:nvPr/>
        </p:nvSpPr>
        <p:spPr>
          <a:xfrm>
            <a:off x="3536640" y="5337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입력 영상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435360" y="53211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출력 영상</a:t>
            </a: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8220240" y="160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3E8-16FF-4184-9FEE-F7934D363F7B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65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66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626-18F8-4120-8EF7-4B7914522D60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점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A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의 좌표를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(Ax, Ay)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라 하고 점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B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의 좌표를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(Bx, By)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라 할 때 점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P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의 좌표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(Px, Py)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를 구하는 코드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00060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if (Ax &lt; Bx) Px = Ax - (Bx - Ax) / 2;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else Px = Ax + (Ax - Bx) / 2;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if (Ay &lt; By) Py = Ay - (By - Ay) / 2;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60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else Py = Ay + (Ay - By) / 2;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CCC-D8EC-45B5-A206-297F5B236EC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1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B036-0953-4843-AECA-22F641D257E9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영상의 경계선에 대해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4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개의 제어선을 추가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374" name="Picture 5" descr="UNI00000a440147"/>
          <p:cNvPicPr/>
          <p:nvPr/>
        </p:nvPicPr>
        <p:blipFill>
          <a:blip r:embed="rId2"/>
          <a:stretch/>
        </p:blipFill>
        <p:spPr>
          <a:xfrm>
            <a:off x="1684440" y="2532240"/>
            <a:ext cx="64198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E51F-8BC5-49C0-A22D-23A757C84B3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8E2-023A-45F6-AEB7-C0CBFF9D0509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영상의 경계에 대한 제어선을 추가하지 않으면 영상의 경계부분이 영향을 받아서 영상이 확대되어 버리는 결과가 발생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380" name="Picture 5" descr="UNI00000a44014f"/>
          <p:cNvPicPr/>
          <p:nvPr/>
        </p:nvPicPr>
        <p:blipFill>
          <a:blip r:embed="rId2"/>
          <a:stretch/>
        </p:blipFill>
        <p:spPr>
          <a:xfrm>
            <a:off x="2090880" y="3089160"/>
            <a:ext cx="45291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87E-EF84-4BC8-879F-39F358806B3F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58A4-486F-42A6-9491-5B6C37F0B048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프로그램을 시작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메뉴표시줄에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New → Graphical Interface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선택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명령창에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guide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라고 입력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295360" y="3090960"/>
            <a:ext cx="4497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3EA-C363-4E64-A287-4ADBF1F462CB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82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83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88C5-8108-448C-B70F-759056D205F1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마우스 입력을 활용한 워핑 프로그램 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그리창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푸시버튼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개 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창에 배치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641600" y="221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387" name="_x63702800" descr="EMB00000d541f6a"/>
          <p:cNvPicPr/>
          <p:nvPr/>
        </p:nvPicPr>
        <p:blipFill>
          <a:blip r:embed="rId2"/>
          <a:stretch/>
        </p:blipFill>
        <p:spPr>
          <a:xfrm>
            <a:off x="1641600" y="2668680"/>
            <a:ext cx="49402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1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9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2F0-5AB5-421F-9E86-782E6F6C4520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685A-D3A7-4502-A73F-A520B78B72EF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3" name="직사각형 6"/>
          <p:cNvSpPr/>
          <p:nvPr/>
        </p:nvSpPr>
        <p:spPr>
          <a:xfrm>
            <a:off x="1935000" y="2570040"/>
            <a:ext cx="5902560" cy="205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warping_OpeningFcn(hObject, eventdata, handles, varargin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handles.I = imread('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여인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.ppm'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J=handles.I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1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J)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lobal k Ax Ay Bx By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k=0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handles.output = hObject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uidata(hObject, handles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2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396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A0B-86CD-4B7C-A5A3-7BC491550E8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7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8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DD7-A4A0-4F72-AC2A-F7AAFA6E8434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399" name="직사각형 6"/>
          <p:cNvSpPr/>
          <p:nvPr/>
        </p:nvSpPr>
        <p:spPr>
          <a:xfrm>
            <a:off x="1960560" y="2398680"/>
            <a:ext cx="5902200" cy="397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figure1_WindowButtonDownFcn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lobal k Ax Ay Bx By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cursorPoint = get(handles.axes1, 'CurrentPoint'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curX = round(cursorPoint(1,1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curY = round(cursorPoint(1,2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(k==1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k=2; Bx= curX;  By= curY;  axes(handles.axes1); hold on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Bx&gt;Ax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xx=Ax:Bx;  yy=((By-Ay)*(xx-Ax))/(Bx-Ax)+Ay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xx=Bx:Ax;  yy=((Ay-By)*(xx-Bx))/(Ax-Bx)+By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plot(xx,yy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k==0)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k=1; Ax= curX; Ay=curY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uidata(hObject, handles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3-1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02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A310-DB29-4CDC-BA2E-53FF1958D5CA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0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04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B85-212A-4116-85FD-C9AE9C1209F2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05" name="직사각형 6"/>
          <p:cNvSpPr/>
          <p:nvPr/>
        </p:nvSpPr>
        <p:spPr>
          <a:xfrm>
            <a:off x="1960560" y="2398680"/>
            <a:ext cx="5902200" cy="397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function pushbutton1_Callback(hObject, eventdata, handles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global k Ax Ay Bx By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Ax&lt;Bx) Px=round(Ax-(Bx-Ax)/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 Px=round(Ax+(Bx-Ax)/2)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Ax&lt;Bx) Py=round(Ay-(By-Ay)/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 Py=round(Ay+(By-Ay)/2)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K= handles.I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warp_I=uint8(zeros(size(K))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ize(K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ize(K,3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I=[Px,Py,Ax,Ay;1,1,size(K,2),1;1,1,1,size(K,1);1,size(K,1),size(K,2),...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ize(K,1);size(K,1),1,size(K,2),size(K,1)]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DI=[Px,Py,Bx,By;1,1,size(K,2),1;1,1,1,size(K,1);1,size(K,1),size(K,2),...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ize(K,1);size(K, 1),1,size(K,2),size(K,1)]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3-2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08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AB79-F484-4393-AE39-C533FD455196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09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10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81A9-C3DF-4DBC-A800-A3DDD37CD8A4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11" name="직사각형 6"/>
          <p:cNvSpPr/>
          <p:nvPr/>
        </p:nvSpPr>
        <p:spPr>
          <a:xfrm>
            <a:off x="1960560" y="2398680"/>
            <a:ext cx="6235560" cy="397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DI_x1=DI(:,1,:,:);   DI_y1=DI(:,2,:,:);   DI_x2=DI(:,3,:,:);  DI_y2=DI(:,4,:,: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SI_x1=SI(:,1,:,:);    SI_y1=SI(:,2,:,:);  SI_x2=SI(:,3,:,:);  SI_y2=SI(:,4,:,: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for y=1:size(K,1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for x=1:size(K,2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tx=0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ty=0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totalweight=0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for line =1:length(DI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x1=DI_x1(line);  y1=DI_y1(line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                 </a:t>
            </a:r>
            <a:r>
              <a:rPr b="0" lang="it-IT" sz="1400" spc="-1" strike="noStrike">
                <a:solidFill>
                  <a:srgbClr val="00060c"/>
                </a:solidFill>
                <a:latin typeface="Times New Roman"/>
              </a:rPr>
              <a:t>x2=DI_x2(line);  y2=DI_y2(line)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dest_line_length = sqrt((x2-x1)^2+(y2-y1)^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u= (((x-x1)*(x2-x1))+((y-y1)*(y2-y1)))/((x2-x1)^2+(y2-y1)^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h= ((y-y1)*(x2-x1)-(x-x1)*(y2-y1))/dest_line_length 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u&lt;0) d=sqrt((x-x1)^2+(y-y1)^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if (u&gt;1) d=sqrt((x-x2)^2+(y-y2)^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 d=abs(h); 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rc_x1=SI_x1(line);  src_y1=SI_y1(line);  src_x2=SI_x2(line);  src_y2=SI_y2(line)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rc_line_length = sqrt((src_x2-src_x1)^2+(src_y2-src_y1)^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3-3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14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57C-F12D-4BDD-8E4A-D8797DF7EDF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15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16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5A3-5DF7-4B5F-B5A3-AEC425690BAD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17" name="직사각형 6"/>
          <p:cNvSpPr/>
          <p:nvPr/>
        </p:nvSpPr>
        <p:spPr>
          <a:xfrm>
            <a:off x="1960560" y="2398680"/>
            <a:ext cx="6235560" cy="397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입력 영상에서의 대응 픽셀 위치 계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xp= src_x1+u*(src_x2-src_x1)-(h*(src_y2-src_y1))/src_line_length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yp= src_y1+u*(src_y2-src_y1)+(h*(src_x2-src_x1))/src_line_length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제어선에 대한 가중치 계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=0.001; b=2; p=0.75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weight = (dest_line_length^p/(a+d))^b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대응 픽셀과 변위 계산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tx=tx+(xp-x)*weight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ty=ty+(yp-y)*weight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totalweight= totalweight+weight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ource_x = x+round(tx/totalweight+0.5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source_y = y+round(ty/totalweight+0.5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영상의 경제를 벗어나는지 확인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source_x &lt; 1 ) source_x=1; 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source_x &gt; size(I,2)) source_x = size(I,2); 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source_y &lt; 1 ) source_y=1; 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(source_y &gt; size(I,1)) source_y=size(I,1); end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사용자 정의함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3-4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20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8BD-C082-4174-A5C8-8DCF44D745F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1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2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D634-B32C-4528-BA07-D860BF427904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3" name="직사각형 6"/>
          <p:cNvSpPr/>
          <p:nvPr/>
        </p:nvSpPr>
        <p:spPr>
          <a:xfrm>
            <a:off x="1960560" y="2398680"/>
            <a:ext cx="6235560" cy="2475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% </a:t>
            </a:r>
            <a:r>
              <a:rPr b="0" lang="ko-KR" sz="1400" spc="-1" strike="noStrike">
                <a:solidFill>
                  <a:srgbClr val="00060c"/>
                </a:solidFill>
                <a:latin typeface="Times New Roman"/>
              </a:rPr>
              <a:t>그레이 스케일 영상과 칼라 영상 확인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f size(K,3)==3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warp_I(y,x,1)=K(source_y,source_x,1);  warp_I(y,x,2)=K(source_y,source_x,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warp_I(y,x,3)=K(source_y,source_x,3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warp_I(y,x)=uint8(K(source_y,source_x));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 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axes(handles.axes2);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Times New Roman"/>
              </a:rPr>
              <a:t>imshow(warp_I,[])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마우스 입력 활용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워핑 적용결과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426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8E5-08B6-4805-8077-25993EBDD25B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7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8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C35-73E5-47AE-A31D-50584638E49E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430" name="_x63700080" descr="EMB00000d541f69"/>
          <p:cNvPicPr/>
          <p:nvPr/>
        </p:nvPicPr>
        <p:blipFill>
          <a:blip r:embed="rId1"/>
          <a:stretch/>
        </p:blipFill>
        <p:spPr>
          <a:xfrm>
            <a:off x="1628640" y="2228760"/>
            <a:ext cx="55231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Choose the first option Blank GUI (Default)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13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0DB-662A-442E-AFD9-7CC0E05B692D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4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15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A11-6D55-4461-AEA3-8D27CDAB85AB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638360" y="2120760"/>
            <a:ext cx="61927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레이아웃 편집기를 사용하여 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GUI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를 설계한다</a:t>
            </a: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19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6AFB-3A09-4AB7-9727-BF3CB1316AB1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20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21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D9F-5A1F-4B25-98E9-8B870723E96A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2924280" y="2208240"/>
            <a:ext cx="5076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컴포넌트 팔레트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설정을 변경하면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GUIDE 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레이아웃 편집기의 컴포넌트 팔레트에 들어있는 아이콘들의 기능을 쉽게 알 수 있도록 아이콘 옆에 해당 기능이 함께 표시된다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25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EE4-3F03-41E4-BCAB-3AF0624D4138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26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27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42E1-0EFA-462C-90A7-5A28CAA61A01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28" name="Picture 1" descr="figure15_5.jpg"/>
          <p:cNvPicPr/>
          <p:nvPr/>
        </p:nvPicPr>
        <p:blipFill>
          <a:blip r:embed="rId2"/>
          <a:stretch/>
        </p:blipFill>
        <p:spPr>
          <a:xfrm>
            <a:off x="4160880" y="3095640"/>
            <a:ext cx="360360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ular Callout 5"/>
          <p:cNvSpPr/>
          <p:nvPr/>
        </p:nvSpPr>
        <p:spPr>
          <a:xfrm>
            <a:off x="1881360" y="4286160"/>
            <a:ext cx="1265040" cy="787320"/>
          </a:xfrm>
          <a:prstGeom prst="wedgeRectCallout">
            <a:avLst>
              <a:gd name="adj1" fmla="val 109430"/>
              <a:gd name="adj2" fmla="val -60166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컴포넌트 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팔레트</a:t>
            </a:r>
            <a:endParaRPr b="0" lang="en-US" sz="1800" spc="-1" strike="noStrike">
              <a:solidFill>
                <a:srgbClr val="0006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Push Button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클릭하면 푸시 버튼 아이콘을 생성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32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ED9-CE54-4788-826D-744DC126366E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3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34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26F1-0C9E-423A-8250-AF48E5120A17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35" name="_x208454680" descr="EMB00001bd05f9f"/>
          <p:cNvPicPr/>
          <p:nvPr/>
        </p:nvPicPr>
        <p:blipFill>
          <a:blip r:embed="rId3"/>
          <a:stretch/>
        </p:blipFill>
        <p:spPr>
          <a:xfrm>
            <a:off x="6634080" y="2593800"/>
            <a:ext cx="1393920" cy="371808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0"/>
          <p:cNvGrpSpPr/>
          <p:nvPr/>
        </p:nvGrpSpPr>
        <p:grpSpPr>
          <a:xfrm>
            <a:off x="1638360" y="3073320"/>
            <a:ext cx="3570120" cy="3098880"/>
            <a:chOff x="1638360" y="3073320"/>
            <a:chExt cx="3570120" cy="3098880"/>
          </a:xfrm>
        </p:grpSpPr>
        <p:pic>
          <p:nvPicPr>
            <p:cNvPr id="137" name="_x208453480" descr="EMB00001bd05fa0"/>
            <p:cNvPicPr/>
            <p:nvPr/>
          </p:nvPicPr>
          <p:blipFill>
            <a:blip r:embed="rId4"/>
            <a:stretch/>
          </p:blipFill>
          <p:spPr>
            <a:xfrm>
              <a:off x="1638360" y="3073320"/>
              <a:ext cx="2542320" cy="16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_x208453960" descr="EMB00001bd05fa1"/>
            <p:cNvPicPr/>
            <p:nvPr/>
          </p:nvPicPr>
          <p:blipFill>
            <a:blip r:embed="rId5"/>
            <a:stretch/>
          </p:blipFill>
          <p:spPr>
            <a:xfrm>
              <a:off x="1638360" y="4885920"/>
              <a:ext cx="3570120" cy="1286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9" name="직선 화살표 연결선 9"/>
            <p:cNvCxnSpPr/>
            <p:nvPr/>
          </p:nvCxnSpPr>
          <p:spPr>
            <a:xfrm flipH="1" flipV="1">
              <a:off x="2256120" y="4452480"/>
              <a:ext cx="1649520" cy="1209240"/>
            </a:xfrm>
            <a:prstGeom prst="straightConnector1">
              <a:avLst/>
            </a:prstGeom>
            <a:ln w="9360">
              <a:solidFill>
                <a:srgbClr val="00060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33"/>
                </a:solidFill>
                <a:latin typeface="굴림"/>
              </a:rPr>
              <a:t>대화상자를 이용한 데이터 입력</a:t>
            </a:r>
            <a:endParaRPr b="0" lang="en-US" sz="4000" spc="-1" strike="noStrike">
              <a:solidFill>
                <a:srgbClr val="333333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60c"/>
                </a:solidFill>
                <a:latin typeface="굴림"/>
              </a:rPr>
              <a:t>Slider </a:t>
            </a:r>
            <a:r>
              <a:rPr b="0" lang="ko-KR" sz="2800" spc="-1" strike="noStrike">
                <a:solidFill>
                  <a:srgbClr val="00060c"/>
                </a:solidFill>
                <a:latin typeface="굴림"/>
              </a:rPr>
              <a:t>아이콘</a:t>
            </a: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슬라이더 아이콘은 슬라이딩 바를 이동하여 지정된 범위 내에서 숫자 입력을 받아 들임</a:t>
            </a:r>
            <a:r>
              <a:rPr b="0" lang="en-US" sz="2400" spc="-1" strike="noStrike">
                <a:solidFill>
                  <a:srgbClr val="00060c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사용자가 클릭하여 슬라이더를 이동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60c"/>
                </a:solidFill>
                <a:latin typeface="굴림"/>
              </a:rPr>
              <a:t>슬라이더의 범위 </a:t>
            </a:r>
            <a:endParaRPr b="0" lang="en-US" sz="2400" spc="-1" strike="noStrike">
              <a:solidFill>
                <a:srgbClr val="00060c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60c"/>
              </a:buClr>
              <a:buSzPct val="70000"/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슬라이더 속성화면의 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Min, Max</a:t>
            </a:r>
            <a:r>
              <a:rPr b="0" lang="ko-KR" sz="2000" spc="-1" strike="noStrike">
                <a:solidFill>
                  <a:srgbClr val="00060c"/>
                </a:solidFill>
                <a:latin typeface="굴림"/>
              </a:rPr>
              <a:t>에서 변경</a:t>
            </a:r>
            <a:r>
              <a:rPr b="0" lang="en-US" sz="2000" spc="-1" strike="noStrike">
                <a:solidFill>
                  <a:srgbClr val="00060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60c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60c"/>
              </a:solidFill>
              <a:latin typeface="굴림"/>
            </a:endParaRPr>
          </a:p>
        </p:txBody>
      </p:sp>
      <p:sp>
        <p:nvSpPr>
          <p:cNvPr id="142" name="날짜 개체 틀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248-CDE2-4651-A3AD-1FC659DA1C95}" type="datetime">
              <a:rPr b="0" lang="ko-KR" sz="1400" spc="-1" strike="noStrike">
                <a:solidFill>
                  <a:srgbClr val="00060c"/>
                </a:solidFill>
                <a:latin typeface="굴림"/>
              </a:rPr>
              <a:t>26年 7月 30日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43" name="바닥글 개체 틀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60c"/>
                </a:solidFill>
                <a:latin typeface="굴림"/>
              </a:rPr>
              <a:t>영상처리</a:t>
            </a:r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sp>
        <p:nvSpPr>
          <p:cNvPr id="144" name="슬라이드 번호 개체 틀 5"/>
          <p:cNvSpPr/>
          <p:nvPr/>
        </p:nvSpPr>
        <p:spPr>
          <a:xfrm>
            <a:off x="8001000" y="6248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684-6C2A-43F7-8855-9E6413C7A52C}" type="slidenum">
              <a:rPr b="0" lang="en-US" sz="1400" spc="-1" strike="noStrike">
                <a:solidFill>
                  <a:srgbClr val="00060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60c"/>
              </a:solidFill>
              <a:latin typeface="Times New Roman"/>
            </a:endParaRPr>
          </a:p>
        </p:txBody>
      </p:sp>
      <p:pic>
        <p:nvPicPr>
          <p:cNvPr id="145" name="_x208455480" descr="EMB00001bd05fa2"/>
          <p:cNvPicPr/>
          <p:nvPr/>
        </p:nvPicPr>
        <p:blipFill>
          <a:blip r:embed="rId3"/>
          <a:stretch/>
        </p:blipFill>
        <p:spPr>
          <a:xfrm>
            <a:off x="1938240" y="4245120"/>
            <a:ext cx="380232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46" name="그룹 7"/>
          <p:cNvGrpSpPr/>
          <p:nvPr/>
        </p:nvGrpSpPr>
        <p:grpSpPr>
          <a:xfrm>
            <a:off x="7101000" y="2682720"/>
            <a:ext cx="1241280" cy="3565800"/>
            <a:chOff x="7101000" y="2682720"/>
            <a:chExt cx="1241280" cy="3565800"/>
          </a:xfrm>
        </p:grpSpPr>
        <p:pic>
          <p:nvPicPr>
            <p:cNvPr id="147" name="_x208454680" descr="EMB00001bd05f9f"/>
            <p:cNvPicPr/>
            <p:nvPr/>
          </p:nvPicPr>
          <p:blipFill>
            <a:blip r:embed="rId4"/>
            <a:stretch/>
          </p:blipFill>
          <p:spPr>
            <a:xfrm>
              <a:off x="7101000" y="2682720"/>
              <a:ext cx="12412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직사각형 9"/>
            <p:cNvSpPr/>
            <p:nvPr/>
          </p:nvSpPr>
          <p:spPr>
            <a:xfrm>
              <a:off x="7133040" y="3247920"/>
              <a:ext cx="117720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60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1:52:59Z</dcterms:created>
  <dc:creator>김학수</dc:creator>
  <dc:description/>
  <dc:language>en-US</dc:language>
  <cp:lastModifiedBy>jun-pc</cp:lastModifiedBy>
  <dcterms:modified xsi:type="dcterms:W3CDTF">2017-03-04T04:28:43Z</dcterms:modified>
  <cp:revision>75</cp:revision>
  <dc:subject/>
  <dc:title>영상압축</dc:title>
</cp:coreProperties>
</file>