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0C89-D6B9-4631-9EDF-24BE2961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495-66FD-49F0-8CC3-FC996D52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7868-314E-40F0-BD29-D686070C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43DB-9B8B-4D45-90A4-F4E1CAAD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2F1F-2FBA-46B5-B2F9-C0DB370C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7FB1-3757-4C1D-A396-2904EF12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65AD-FE19-41D1-9BA9-B0E84DD6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9D50-2D59-42D8-A40C-0B1D468A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FE4C-4320-4937-A838-67CDD43C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93680" y="284040"/>
            <a:ext cx="777240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2E5A-5F1F-443E-8F26-6FBD91B2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B573-938A-4403-9777-CBD060B8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74C-668A-40F8-9EA6-DA444EEF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1E7D-97AB-4D31-8B62-B5F3528B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B144-DE72-4610-B4BA-1E3F2E22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5D17-F2D7-4D0E-845B-BE89519A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91B7-4975-459B-B10E-3594F310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893B-59D4-4723-A8A8-41647D4C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B047-1FBE-4B35-BC74-CF6F12E6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159-47E0-4E91-B7A9-512B8FA6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203-5596-4079-970B-E7E8C208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93680" y="284040"/>
            <a:ext cx="777240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DB62-098A-4D14-866C-5E91E01B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5F1-B7A0-4C50-95C6-58E8FF5C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830C-9C07-45CB-B3AB-AD460068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A8C-6333-4622-A0C1-EF879002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060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060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060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60c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2128-CA57-4576-8D0C-BF849AF6254C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60c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60c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219320"/>
            <a:ext cx="8458200" cy="87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447920"/>
          </a:xfrm>
          <a:prstGeom prst="rect">
            <a:avLst/>
          </a:prstGeom>
          <a:solidFill>
            <a:srgbClr val="64b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933480" cy="76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01000" y="6248160"/>
            <a:ext cx="533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60c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5618-BACF-4637-BCCB-BB8E426CF704}" type="slidenum">
              <a:rPr b="0" lang="ko-KR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34520" y="6553080"/>
            <a:ext cx="533160" cy="76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60c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968D-54FF-4ACD-B572-B1AE00B52B0B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60c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60c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60c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87A0-9BA4-45F1-A7C4-2091C041BDEA}" type="slidenum">
              <a:rPr b="0" lang="ko-KR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914400" algn="ctr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60c"/>
                </a:solidFill>
                <a:latin typeface="굴림"/>
              </a:rPr>
              <a:t>Third Outline Level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3" marL="1371600" algn="ctr">
              <a:spcBef>
                <a:spcPts val="451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60c"/>
                </a:solidFill>
                <a:latin typeface="굴림"/>
              </a:rPr>
              <a:t>Fourth Outline Level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00060c"/>
              </a:buClr>
              <a:buFont typeface="굴림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60c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00060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60c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00060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60c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ko-KR" sz="3600" spc="-1" strike="noStrike">
                <a:solidFill>
                  <a:srgbClr val="ffffff"/>
                </a:solidFill>
                <a:latin typeface="굴림"/>
              </a:rPr>
              <a:t>11 </a:t>
            </a:r>
            <a:r>
              <a:rPr b="0" lang="ko-KR" sz="3600" spc="-1" strike="noStrike">
                <a:solidFill>
                  <a:srgbClr val="ffffff"/>
                </a:solidFill>
                <a:latin typeface="굴림"/>
              </a:rPr>
              <a:t>장 단순한 형태의 패턴 검출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윤곽선 검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332080" y="1600200"/>
          <a:ext cx="44798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080" y="1600200"/>
                    <a:ext cx="44798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32FF-2EB8-4A5B-9876-60D97C6BADD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5811D-D723-4C66-BBFF-26B896AD38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윤곽선 검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473200" y="1725480"/>
          <a:ext cx="4195800" cy="43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1725480"/>
                    <a:ext cx="419580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681-2956-4A32-ABF7-2B364633E50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36192-AA24-4EA0-91AE-11EDC83C65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윤곽선 검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단계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3 -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탐색 종료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spcBef>
                <a:spcPts val="451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더 이상 연결된 가장자리 픽셀이 없는 경우 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spcBef>
                <a:spcPts val="451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탐색의 시작점을 만나는 경우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2C5-04D7-447D-9054-2814D7FE65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AF874-C313-4C9C-89D5-F98B3BB1F2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선분으로의 근사화 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필요성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간단한 도형을 훨씬 더 용이하게 검출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윤곽선의 표현이 보다 간결해지고 데이터의 양도 줄어듬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31880" y="3521160"/>
          <a:ext cx="2121120" cy="2070000"/>
        </p:xfrm>
        <a:graphic>
          <a:graphicData uri="http://schemas.openxmlformats.org/drawingml/2006/table">
            <a:tbl>
              <a:tblPr/>
              <a:tblGrid>
                <a:gridCol w="424080"/>
                <a:gridCol w="424440"/>
                <a:gridCol w="424080"/>
                <a:gridCol w="424080"/>
                <a:gridCol w="424440"/>
              </a:tblGrid>
              <a:tr h="41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 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0" y="400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49800" y="3859920"/>
            <a:ext cx="386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60c"/>
                </a:solidFill>
                <a:latin typeface="Times New Roman"/>
              </a:rPr>
              <a:t>윤곽선 픽셀 </a:t>
            </a:r>
            <a:r>
              <a:rPr b="0" lang="ko-KR" sz="1600" spc="-1" strike="noStrike">
                <a:solidFill>
                  <a:srgbClr val="00060c"/>
                </a:solidFill>
                <a:latin typeface="Times New Roman"/>
              </a:rPr>
              <a:t>= { (1, 1), (2, 1), (3, 1), (3, 2),</a:t>
            </a:r>
            <a:endParaRPr b="0" lang="en-US" sz="1600" spc="-1" strike="noStrike">
              <a:solidFill>
                <a:srgbClr val="00060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60c"/>
                </a:solidFill>
                <a:latin typeface="Times New Roman"/>
              </a:rPr>
              <a:t>                            </a:t>
            </a:r>
            <a:r>
              <a:rPr b="0" lang="ko-KR" sz="1600" spc="-1" strike="noStrike">
                <a:solidFill>
                  <a:srgbClr val="00060c"/>
                </a:solidFill>
                <a:latin typeface="Times New Roman"/>
              </a:rPr>
              <a:t>(3, 3), (2, 3), (1, 3), (1, 2) } </a:t>
            </a:r>
            <a:endParaRPr b="0" lang="en-US" sz="16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13080" y="4748040"/>
            <a:ext cx="452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60c"/>
                </a:solidFill>
                <a:latin typeface="Times New Roman"/>
              </a:rPr>
              <a:t>윤곽선 선분의 정점 </a:t>
            </a:r>
            <a:r>
              <a:rPr b="0" lang="ko-KR" sz="1600" spc="-1" strike="noStrike">
                <a:solidFill>
                  <a:srgbClr val="00060c"/>
                </a:solidFill>
                <a:latin typeface="Times New Roman"/>
              </a:rPr>
              <a:t>= { (1, 1), (3, 1), (3, 3), (1, 3) } </a:t>
            </a:r>
            <a:endParaRPr b="0" lang="en-US" sz="16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4E74-46EF-41EE-9A6E-4E16EA4EB3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7AEE1-E66E-4E80-A51D-001EB1FC94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선분으로의 근사화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Douglas-Peucker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알고리즘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윤곽선의 점들 중에서 가장 먼 거리에 있는 두 점을 발견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가장 먼 거리에 있는 두 점을 기점으로 윤곽선을 두 개의 조각으로 분할하여 스택에 저장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스택이 비워질 때까지 다음 과정을 반복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i)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스택으로부터 윤곽선 조각 하나를 가져온 다음에 그 길이를 검사 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ii)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윤곽선 조각을 구성하는 점의 수가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개이면 그 윤곽선 조각은 선분으로 출력 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iii)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윤곽선 조각을 구성하는 점의 수가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개 보다 많은 경우에는 그 조각의 점들 중에서 그 조각의 양 끝점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A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B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를 잇는 선분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AB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로부터 가장 먼 거리에 있는 점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C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를 발견 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iv)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선분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AB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와 점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사이의 거리가 임계값 이하이면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A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B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사이의 윤곽선을 선분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AB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로 근사화하고 그렇지 않으면 점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C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를 기점으로 윤곽선을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개로 분할하여 스택에 저장 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4B9F-1514-471A-98E8-2F419B808C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19A11-84F4-4264-B58E-DDC535C619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선분으로의 근사화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윤곽선의 점들 중에서 가장 먼 거리에 있는 두 점을 찾는 방법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SzPct val="70000"/>
              <a:buFont typeface="굴림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임의의 한 점에서 시작하여 그 점에서 제일 먼 점을 찾음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SzPct val="70000"/>
              <a:buFont typeface="굴림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앞에서 발견된 점으로부터 제일 먼 점을 다시 찾음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SzPct val="70000"/>
              <a:buFont typeface="굴림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번 과정을 더 이상 두점 사이의 거리가 늘어나지 않을 때까지 반복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2174-D858-4D3F-9BC8-1C2DCEA244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FC740-E14E-43B9-8B1E-D6123DA7B0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선분으로의 근사화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5367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24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P(2,1)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에서 시작하여 가장 멀리 있는 두점을 찾으면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P(1, 1)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과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P(3, 3)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이 선택됨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SzPct val="1224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P(1, 1)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과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P(3, 3)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을 기점으로 윤곽선을 두개의 조각으로 분할하여 스택에 보관</a:t>
            </a:r>
            <a:br>
              <a:rPr sz="2000"/>
            </a:b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S1 = &lt; (1, 1), (2, 1), (3, 1), (3, 2), (3, 3) &gt; 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S2 = &lt; (3, 3), (2, 3), (1, 3), (1, 2), (1, 1) &gt;  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267600" y="2216160"/>
          <a:ext cx="2282760" cy="2198520"/>
        </p:xfrm>
        <a:graphic>
          <a:graphicData uri="http://schemas.openxmlformats.org/drawingml/2006/table">
            <a:tbl>
              <a:tblPr/>
              <a:tblGrid>
                <a:gridCol w="456480"/>
                <a:gridCol w="456480"/>
                <a:gridCol w="456840"/>
                <a:gridCol w="456120"/>
                <a:gridCol w="456840"/>
              </a:tblGrid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 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237-27D9-4E0D-82BA-9FFEB0736C3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15F4C-5B41-4EFD-9433-B201B4C3DD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선분으로의 근사화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808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조각의 양 끝점을 지나는 직선으로부터 가장 먼 거리에 있는 점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점과 직선 사이의 거리를 구하는 공식을 이용하여 발견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168640" y="3417840"/>
          <a:ext cx="4914720" cy="221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8640" y="3417840"/>
                    <a:ext cx="491472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B6D-165F-4F40-A0BE-EEF74BB4564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69034-BF1E-423C-BBFC-A73A573123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선분으로의 근사화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81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윤곽선 조각 양 끝점의 좌표가                       일때에 두 점을 지나는 직선의 방정식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윤곽선 조각 직선과 점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(x</a:t>
            </a:r>
            <a:r>
              <a:rPr b="0" lang="ko-KR" sz="2400" spc="-1" strike="noStrike" baseline="-25000">
                <a:solidFill>
                  <a:srgbClr val="00060c"/>
                </a:solidFill>
                <a:latin typeface="굴림"/>
              </a:rPr>
              <a:t>0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, y</a:t>
            </a:r>
            <a:r>
              <a:rPr b="0" lang="ko-KR" sz="2400" spc="-1" strike="noStrike" baseline="-25000">
                <a:solidFill>
                  <a:srgbClr val="00060c"/>
                </a:solidFill>
                <a:latin typeface="굴림"/>
              </a:rPr>
              <a:t>0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거리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63840" y="2652840"/>
          <a:ext cx="596232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3840" y="2652840"/>
                    <a:ext cx="59623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318280" y="1646280"/>
          <a:ext cx="1925640" cy="37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18280" y="1646280"/>
                    <a:ext cx="192564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319040" y="4344840"/>
          <a:ext cx="6096240" cy="175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19040" y="4344840"/>
                    <a:ext cx="6096240" cy="17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075-4B3B-4042-B0C9-BF60485DE23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C37BA-9D60-4B04-9DFB-F69C2068B0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선분으로의 근사화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9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다음의 윤곽선 조각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S1 = &lt; (1, 1), (2, 1), (3, 1), (3, 2), (3, 3) &gt;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가장 멀리 있는 점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spcBef>
                <a:spcPts val="400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60c"/>
                </a:solidFill>
                <a:latin typeface="굴림"/>
              </a:rPr>
              <a:t>점 </a:t>
            </a:r>
            <a:r>
              <a:rPr b="0" lang="ko-KR" sz="1600" spc="-1" strike="noStrike">
                <a:solidFill>
                  <a:srgbClr val="00060c"/>
                </a:solidFill>
                <a:latin typeface="굴림"/>
              </a:rPr>
              <a:t>(3, 1) : </a:t>
            </a:r>
            <a:r>
              <a:rPr b="0" lang="ko-KR" sz="1600" spc="-1" strike="noStrike">
                <a:solidFill>
                  <a:srgbClr val="00060c"/>
                </a:solidFill>
                <a:latin typeface="굴림"/>
              </a:rPr>
              <a:t>윤곽선 조각 직선사이의 거리 </a:t>
            </a:r>
            <a:r>
              <a:rPr b="0" lang="ko-KR" sz="1600" spc="-1" strike="noStrike">
                <a:solidFill>
                  <a:srgbClr val="00060c"/>
                </a:solidFill>
                <a:latin typeface="굴림"/>
              </a:rPr>
              <a:t>= 1.414</a:t>
            </a:r>
            <a:endParaRPr b="0" lang="en-US" sz="16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임계값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spcBef>
                <a:spcPts val="400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60c"/>
                </a:solidFill>
                <a:latin typeface="굴림"/>
              </a:rPr>
              <a:t>응용에 따라 달라질 수 있음</a:t>
            </a:r>
            <a:endParaRPr b="0" lang="en-US" sz="16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spcBef>
                <a:spcPts val="400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60c"/>
                </a:solidFill>
                <a:latin typeface="굴림"/>
              </a:rPr>
              <a:t>여기에서는 임계값으로 윤곽선 조각 길이에 </a:t>
            </a:r>
            <a:r>
              <a:rPr b="0" lang="ko-KR" sz="1600" spc="-1" strike="noStrike">
                <a:solidFill>
                  <a:srgbClr val="00060c"/>
                </a:solidFill>
                <a:latin typeface="굴림"/>
              </a:rPr>
              <a:t>0.1</a:t>
            </a:r>
            <a:r>
              <a:rPr b="0" lang="ko-KR" sz="1600" spc="-1" strike="noStrike">
                <a:solidFill>
                  <a:srgbClr val="00060c"/>
                </a:solidFill>
                <a:latin typeface="굴림"/>
              </a:rPr>
              <a:t>을 곱한 값 사용</a:t>
            </a:r>
            <a:endParaRPr b="0" lang="en-US" sz="1600" spc="-1" strike="noStrike">
              <a:solidFill>
                <a:srgbClr val="00060c"/>
              </a:solidFill>
              <a:latin typeface="굴림"/>
            </a:endParaRPr>
          </a:p>
          <a:p>
            <a:pPr lvl="4" marL="2057400" indent="-228600">
              <a:spcBef>
                <a:spcPts val="400"/>
              </a:spcBef>
              <a:buClr>
                <a:srgbClr val="00060c"/>
              </a:buClr>
              <a:buFont typeface="굴림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60c"/>
                </a:solidFill>
                <a:latin typeface="굴림"/>
              </a:rPr>
              <a:t>여기에서는 윤곽선 조각 길이를 픽셀수로 사용</a:t>
            </a:r>
            <a:endParaRPr b="0" lang="en-US" sz="1600" spc="-1" strike="noStrike">
              <a:solidFill>
                <a:srgbClr val="00060c"/>
              </a:solidFill>
              <a:latin typeface="굴림"/>
            </a:endParaRPr>
          </a:p>
          <a:p>
            <a:pPr lvl="4" marL="2057400" indent="-228600">
              <a:spcBef>
                <a:spcPts val="400"/>
              </a:spcBef>
              <a:buClr>
                <a:srgbClr val="00060c"/>
              </a:buClr>
              <a:buFont typeface="굴림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60c"/>
                </a:solidFill>
                <a:latin typeface="굴림"/>
              </a:rPr>
              <a:t>S1</a:t>
            </a:r>
            <a:r>
              <a:rPr b="0" lang="ko-KR" sz="1600" spc="-1" strike="noStrike">
                <a:solidFill>
                  <a:srgbClr val="00060c"/>
                </a:solidFill>
                <a:latin typeface="굴림"/>
              </a:rPr>
              <a:t>의 길이 </a:t>
            </a:r>
            <a:r>
              <a:rPr b="0" lang="ko-KR" sz="1600" spc="-1" strike="noStrike">
                <a:solidFill>
                  <a:srgbClr val="00060c"/>
                </a:solidFill>
                <a:latin typeface="굴림"/>
              </a:rPr>
              <a:t>= 5</a:t>
            </a:r>
            <a:endParaRPr b="0" lang="en-US" sz="16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spcBef>
                <a:spcPts val="400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60c"/>
                </a:solidFill>
                <a:latin typeface="굴림"/>
              </a:rPr>
              <a:t>임계값 </a:t>
            </a:r>
            <a:r>
              <a:rPr b="0" lang="ko-KR" sz="1600" spc="-1" strike="noStrike">
                <a:solidFill>
                  <a:srgbClr val="00060c"/>
                </a:solidFill>
                <a:latin typeface="굴림"/>
              </a:rPr>
              <a:t>= 0.5</a:t>
            </a:r>
            <a:endParaRPr b="0" lang="en-US" sz="16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윤곽선 조각 분할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거리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(1.414) &gt;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임계값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(0.5)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spcBef>
                <a:spcPts val="400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60c"/>
                </a:solidFill>
                <a:latin typeface="굴림"/>
              </a:rPr>
              <a:t>S3 = &lt; (1, 1), (2, 1), (3, 1) &gt; </a:t>
            </a:r>
            <a:endParaRPr b="0" lang="en-US" sz="16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spcBef>
                <a:spcPts val="400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60c"/>
                </a:solidFill>
                <a:latin typeface="굴림"/>
              </a:rPr>
              <a:t>S4 = &lt; (3, 1), (3, 2), (3, 3) &gt; </a:t>
            </a:r>
            <a:endParaRPr b="0" lang="en-US" sz="1600" spc="-1" strike="noStrike">
              <a:solidFill>
                <a:srgbClr val="00060c"/>
              </a:solidFill>
              <a:latin typeface="굴림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726240" y="4305240"/>
          <a:ext cx="2284560" cy="2068200"/>
        </p:xfrm>
        <a:graphic>
          <a:graphicData uri="http://schemas.openxmlformats.org/drawingml/2006/table">
            <a:tbl>
              <a:tblPr/>
              <a:tblGrid>
                <a:gridCol w="455040"/>
                <a:gridCol w="458640"/>
                <a:gridCol w="456840"/>
                <a:gridCol w="458640"/>
                <a:gridCol w="455400"/>
              </a:tblGrid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 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B10-BEB6-4420-92CE-199336A240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1E729-4B46-41C1-A8E5-BE7F90B8DA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단순한 형태의 패턴 검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사각형</a:t>
            </a: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삼각형</a:t>
            </a: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원 등의 단순한 형태의 패턴 검출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윤곽선의 기하학적 특징을 이용하여 검출 가능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정사각형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spcBef>
                <a:spcPts val="451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개의 선분으로 구성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spcBef>
                <a:spcPts val="451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사이각이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90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도 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spcBef>
                <a:spcPts val="451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선분의 길이가 동일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패턴 검출 과정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윤곽선 검출 </a:t>
            </a:r>
            <a:r>
              <a:rPr b="0" lang="ko-KR" sz="2400" spc="-1" strike="noStrike">
                <a:solidFill>
                  <a:srgbClr val="00060c"/>
                </a:solidFill>
                <a:latin typeface="Wingdings"/>
                <a:ea typeface="Wingdings"/>
              </a:rPr>
              <a:t>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 선분으로 근사화 </a:t>
            </a:r>
            <a:r>
              <a:rPr b="0" lang="ko-KR" sz="2400" spc="-1" strike="noStrike">
                <a:solidFill>
                  <a:srgbClr val="00060c"/>
                </a:solidFill>
                <a:latin typeface="Wingdings"/>
                <a:ea typeface="Wingdings"/>
              </a:rPr>
              <a:t>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 기하학적 특징 추출 </a:t>
            </a:r>
            <a:r>
              <a:rPr b="0" lang="ko-KR" sz="2400" spc="-1" strike="noStrike">
                <a:solidFill>
                  <a:srgbClr val="00060c"/>
                </a:solidFill>
                <a:latin typeface="Wingdings"/>
                <a:ea typeface="Wingdings"/>
              </a:rPr>
              <a:t>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 패턴 판별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5EF6-EF57-4DBB-923B-38CEC891D5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F4922-BF9F-4A80-AC4F-DE2F6607F8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선분으로의 근사화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다음의 윤곽선 조각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S3 = &lt; (1, 1), (2, 1), (3, 1) &gt;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분할되지 않고 하나의 선분으로 근사화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가장 먼 거리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= 0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임계값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= 0.3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다음의 윤곽선 조각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S2 = &lt; (3, 3), (2, 3), (1, 3), (1, 2), (1, 1) &gt;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다음의 두 조각으로 분할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S5 = &lt; (3, 3), (2, 3), (1, 3) &gt; 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S6 = &lt; (1, 3), (1, 2), (1, 1) &gt; 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S5, S6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은 선분으로 근사화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2CD-2CD3-4CD6-B8A5-D1194BCAC07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479C8-7462-4CBB-AE12-EA3A57F29F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기하학적 특징 추출 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다음과 같은 기하학적 특징을 이용하여 단순한 패턴 검출 가능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윤곽선 길이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윤곽선 내부 면적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원형 지수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물체의 무게 중심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선분 사이의 각도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323-ED84-4B9A-9D16-F12BD8B3434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92DDB-F237-4099-A68C-EA0431024C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기하학적 특징 추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윤곽선 길이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254240" y="2384280"/>
          <a:ext cx="5868720" cy="29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4240" y="2384280"/>
                    <a:ext cx="586872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F54-D0F7-41B9-B64D-23A266FFD00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A4227-6318-4D56-A459-71EF684271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기하학적 특징 추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32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윤곽선 내부 면적 계산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N-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각형의 각 정점의 좌표가 연결되어 있는 순서대로 다음과 같은 경우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다각형 내부의 면적은 다음과 같이 계산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459080" y="3100320"/>
          <a:ext cx="3809880" cy="34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9080" y="3100320"/>
                    <a:ext cx="38098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778360" y="3048120"/>
          <a:ext cx="1990800" cy="44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360" y="3048120"/>
                    <a:ext cx="19908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616040" y="4365720"/>
          <a:ext cx="3448080" cy="993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16040" y="4365720"/>
                    <a:ext cx="344808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3C7-4AD3-4C1E-8592-2A4B0E119FC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5F034-7970-482D-8C81-9A4F512BE3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기하학적 특징 추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53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앞의 공식에 의한 아래 사각형의 면적 계산  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652840" y="3979800"/>
            <a:ext cx="2636640" cy="152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1085760" y="2438280"/>
          <a:ext cx="6659640" cy="129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5760" y="2438280"/>
                    <a:ext cx="665964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EA4-63F3-4D26-8D3F-4E36E2326D4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7FCA5-B0C7-4720-AC4C-C5FFDA204F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기하학적 특징 추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23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원형 지수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완벽한 원의 원형 지수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= 1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가장 원과 먼 경우의 원형 지수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= 0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계산 식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927080" y="3336840"/>
          <a:ext cx="4916520" cy="71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7080" y="3336840"/>
                    <a:ext cx="49165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974960" y="4091040"/>
          <a:ext cx="2262240" cy="1974960"/>
        </p:xfrm>
        <a:graphic>
          <a:graphicData uri="http://schemas.openxmlformats.org/drawingml/2006/table">
            <a:tbl>
              <a:tblPr/>
              <a:tblGrid>
                <a:gridCol w="450720"/>
                <a:gridCol w="455760"/>
                <a:gridCol w="449280"/>
                <a:gridCol w="455400"/>
                <a:gridCol w="451080"/>
              </a:tblGrid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 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4352040" y="502128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60c"/>
                </a:solidFill>
                <a:latin typeface="Times New Roman"/>
              </a:rPr>
              <a:t>A = 4, </a:t>
            </a:r>
            <a:r>
              <a:rPr b="0" i="1" lang="en-US" sz="1800" spc="-1" strike="noStrike">
                <a:solidFill>
                  <a:srgbClr val="00060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60c"/>
                </a:solidFill>
                <a:latin typeface="Times New Roman"/>
              </a:rPr>
              <a:t> = 8, C = 0.785</a:t>
            </a:r>
            <a:endParaRPr b="0" lang="en-US" sz="18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CC2-40AA-4A15-A833-C8A646CB533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47928-6CFC-4C10-82C0-08E67E3BFF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기하학적 특징 추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0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몇가지 도형에 대한 원형 지수  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60360" y="2270160"/>
          <a:ext cx="6303960" cy="171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0360" y="2270160"/>
                    <a:ext cx="630396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A40-5349-4F52-BBDC-5156FA441CB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586AA-417B-4BB5-8510-5DE8122F0D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기하학적 특징 추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물체의 무게 중심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08040" y="2200320"/>
          <a:ext cx="455616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08040" y="2200320"/>
                    <a:ext cx="45561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19360" y="4040280"/>
          <a:ext cx="2222280" cy="2058480"/>
        </p:xfrm>
        <a:graphic>
          <a:graphicData uri="http://schemas.openxmlformats.org/drawingml/2006/table">
            <a:tbl>
              <a:tblPr/>
              <a:tblGrid>
                <a:gridCol w="442440"/>
                <a:gridCol w="447840"/>
                <a:gridCol w="441360"/>
                <a:gridCol w="447480"/>
                <a:gridCol w="443160"/>
              </a:tblGrid>
              <a:tr h="41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 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4974120" y="4735440"/>
            <a:ext cx="29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Times New Roman"/>
              </a:rPr>
              <a:t>위 식을 적용하면 무게중심 </a:t>
            </a:r>
            <a:r>
              <a:rPr b="0" lang="ko-KR" sz="2000" spc="-1" strike="noStrike">
                <a:solidFill>
                  <a:srgbClr val="00060c"/>
                </a:solidFill>
                <a:latin typeface="Times New Roman"/>
              </a:rPr>
              <a:t>= (2, 2)</a:t>
            </a:r>
            <a:endParaRPr b="0" lang="en-US" sz="20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FFF-D814-43F7-88C7-18126F69B87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C4ECC-EFDB-4D0F-ABE7-24258D40A8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기하학적 특징 추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선분 사이의 각도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60400" y="2367000"/>
          <a:ext cx="3809880" cy="217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0400" y="2367000"/>
                    <a:ext cx="38098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836960" y="2347920"/>
          <a:ext cx="3810240" cy="2119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36960" y="2347920"/>
                    <a:ext cx="3810240" cy="21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6130080" y="477504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벡터를 이용한 표현</a:t>
            </a: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96400" y="477360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사이각을 구하려는 두 선분</a:t>
            </a: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172-B882-4063-9208-4DFB6BB7A50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007C0-7257-4C24-824F-ADCE078CAC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기하학적 특징 추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사이각 계산 공식 유도 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20800" y="3772080"/>
          <a:ext cx="2322360" cy="257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0800" y="3772080"/>
                    <a:ext cx="2322360" cy="25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70360" y="2139840"/>
          <a:ext cx="2940120" cy="87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70360" y="2139840"/>
                    <a:ext cx="294012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871560" y="2144880"/>
          <a:ext cx="2530440" cy="1407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71560" y="2144880"/>
                    <a:ext cx="253044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4308480" y="3000240"/>
          <a:ext cx="4411800" cy="140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08480" y="3000240"/>
                    <a:ext cx="441180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048120" y="4368960"/>
          <a:ext cx="6095880" cy="1131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8120" y="4368960"/>
                    <a:ext cx="60958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C11-A111-439E-B28E-371C3AFF374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3E064-A47F-496A-8168-62D44C1DE2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윤곽선 검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바깥 윤곽선과 안쪽 윤곽선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31800" y="2556000"/>
            <a:ext cx="5937480" cy="268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7754-9364-493C-AF66-C413696FD1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452C0-2FA6-41DE-8B74-6ED373EC38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기하학적 특징 추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사이각 계산 예 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41240" y="3094200"/>
          <a:ext cx="2224080" cy="146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1240" y="3094200"/>
                    <a:ext cx="222408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3770280" y="2836800"/>
          <a:ext cx="4651560" cy="214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70280" y="2836800"/>
                    <a:ext cx="46515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4824720" y="5014800"/>
            <a:ext cx="23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Wingdings"/>
                <a:ea typeface="Wingdings"/>
              </a:rPr>
              <a:t></a:t>
            </a:r>
            <a:r>
              <a:rPr b="0" lang="ko-KR" sz="1800" spc="-1" strike="noStrike">
                <a:solidFill>
                  <a:srgbClr val="00060c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60c"/>
                </a:solidFill>
                <a:latin typeface="Times New Roman"/>
              </a:rPr>
              <a:t>일반각으로 변환하면 </a:t>
            </a:r>
            <a:r>
              <a:rPr b="0" lang="ko-KR" sz="1800" spc="-1" strike="noStrike">
                <a:solidFill>
                  <a:srgbClr val="00060c"/>
                </a:solidFill>
                <a:latin typeface="Times New Roman"/>
              </a:rPr>
              <a:t>90</a:t>
            </a:r>
            <a:r>
              <a:rPr b="0" lang="ko-KR" sz="1800" spc="-1" strike="noStrike">
                <a:solidFill>
                  <a:srgbClr val="00060c"/>
                </a:solidFill>
                <a:latin typeface="Times New Roman"/>
              </a:rPr>
              <a:t>도</a:t>
            </a:r>
            <a:endParaRPr b="0" lang="en-US" sz="18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51480" y="4603680"/>
            <a:ext cx="70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60c"/>
                </a:solidFill>
                <a:latin typeface="Times New Roman"/>
              </a:rPr>
              <a:t>(</a:t>
            </a:r>
            <a:r>
              <a:rPr b="0" lang="ko-KR" sz="1400" spc="-1" strike="noStrike">
                <a:solidFill>
                  <a:srgbClr val="00060c"/>
                </a:solidFill>
                <a:latin typeface="Times New Roman"/>
              </a:rPr>
              <a:t>라디안</a:t>
            </a:r>
            <a:r>
              <a:rPr b="0" lang="ko-KR" sz="1400" spc="-1" strike="noStrike">
                <a:solidFill>
                  <a:srgbClr val="00060c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D8D-4EB4-4BF5-8F1E-E20D65059AF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6617A-CF7F-4DA0-8613-2F08088D3E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단순한 패턴 검출 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입력 영상 예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영상의 이진화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영상 분석을 용이하게 하기 위해 이진화 필요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배경색과 물체색를 구분하는 임계값이 일정하지 않음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영상을 분석하여 자동으로 임계값을 발견 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여러 임계값을 사용하여 이진 영상을 생성 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556080" y="2308320"/>
            <a:ext cx="1952640" cy="1466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206360" y="2289240"/>
            <a:ext cx="1952640" cy="14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C55-4491-42BD-8A1E-C3B229D1D9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5EB44-96C9-44C4-8711-6FE90209C9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단순한 패턴 검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이진화 예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712880" y="2147760"/>
          <a:ext cx="4383000" cy="195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2880" y="2147760"/>
                    <a:ext cx="438300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1711440" y="4238640"/>
          <a:ext cx="4384440" cy="187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1440" y="4238640"/>
                    <a:ext cx="438444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FE36-D549-4B24-82E5-42559E8477D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9AC0E-BAE4-418A-9BDB-13F9D95C3C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단순한 패턴 검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윤곽선 검출 결과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952640" y="2152800"/>
          <a:ext cx="4788000" cy="207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52640" y="2152800"/>
                    <a:ext cx="478800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1959120" y="4370400"/>
          <a:ext cx="4787640" cy="190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9120" y="4370400"/>
                    <a:ext cx="478764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F4F-0E12-4813-B895-08416759EBA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0813C-3B38-42C6-8009-F9FCBB30BB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단순한 패턴 검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3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선분으로 근사화한 후에 기하학적 특징을 이용하여 패턴 검출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구체적인 방법은 교재의 실습 내용 참조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817640" y="3224160"/>
          <a:ext cx="5357880" cy="19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7640" y="3224160"/>
                    <a:ext cx="535788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3647880" y="52275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삼각형 검출 결과</a:t>
            </a: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5A5-5465-4FD4-9867-5E81507CF02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72BA4-63B4-4C69-89EB-E556417FFA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윤곽선 검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픽셀 탐색에 의한 윤곽선 검출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단계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1 -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윤곽선 검출의 시작점 탐색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spcBef>
                <a:spcPts val="451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영상의 맨 윗줄의 좌측에 있는 픽셀부터 시작하여 오른쪽방향으로 스캔하면서 다음의 두 조건을 만족하는 픽셀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P(x, y)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를 선택 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      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1) P(x, y)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의 값이 물체의 색과 일치 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      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2) P(x, y)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바로 위의 픽셀이 배경 픽셀이거나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P(x, y)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가</a:t>
            </a:r>
            <a:br>
              <a:rPr sz="1800"/>
            </a:b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      맨 윗줄에 있는 픽셀 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33D1-3F8B-4329-94A0-5D7AE2B31F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5A7FD-E491-44DF-8590-C96F834FDA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윤곽선 검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P(2,1)</a:t>
            </a: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이 조건을 만족하여 시작점으로 선택됨 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968480" y="2257560"/>
          <a:ext cx="3716280" cy="3377880"/>
        </p:xfrm>
        <a:graphic>
          <a:graphicData uri="http://schemas.openxmlformats.org/drawingml/2006/table">
            <a:tbl>
              <a:tblPr/>
              <a:tblGrid>
                <a:gridCol w="398520"/>
                <a:gridCol w="552240"/>
                <a:gridCol w="554040"/>
                <a:gridCol w="552600"/>
                <a:gridCol w="552600"/>
                <a:gridCol w="554040"/>
                <a:gridCol w="552240"/>
              </a:tblGrid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1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3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4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1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3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4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1E25-FB8A-4D2D-B537-AE98F21F53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ABBD5-DF60-428F-8163-6D05DAB4C4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윤곽선 검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86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단계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2 -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인접한 가장자리 픽셀 탐색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픽셀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P(x, y)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가 가장자리 픽셀일 경우에 인접한 가장자리 픽셀은 픽셀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P(x, y)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주위의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8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개 픽셀 중에 존재 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   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1)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인접 픽셀중의 한 픽셀에서 검사를 시작 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   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2)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픽셀값이 배경색이면 계속해서 다음 픽셀을 검사 </a:t>
            </a:r>
            <a:br>
              <a:rPr sz="1800"/>
            </a:b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   픽셀값이 물체색이면 그 픽셀을 인접한 가장자리 픽셀로 </a:t>
            </a:r>
            <a:br>
              <a:rPr sz="1800"/>
            </a:b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   정하고 검사를 멈춤 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       </a:t>
            </a:r>
            <a:r>
              <a:rPr b="0" lang="ko-KR" sz="1800" spc="-1" strike="noStrike">
                <a:solidFill>
                  <a:srgbClr val="00060c"/>
                </a:solidFill>
                <a:latin typeface="Wingdings"/>
                <a:ea typeface="Wingdings"/>
              </a:rPr>
              <a:t>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8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개의 픽셀의 값을 어느 픽셀부터 검사를 시작해야 </a:t>
            </a:r>
            <a:br>
              <a:rPr sz="1800"/>
            </a:b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         할 것인지와 어떤 순서로 검사해야 할 것인가가 중요 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       </a:t>
            </a:r>
            <a:r>
              <a:rPr b="0" lang="ko-KR" sz="1800" spc="-1" strike="noStrike">
                <a:solidFill>
                  <a:srgbClr val="00060c"/>
                </a:solidFill>
                <a:latin typeface="Wingdings"/>
                <a:ea typeface="Wingdings"/>
              </a:rPr>
              <a:t>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본 교재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       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바깥쪽 윤곽선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시계 방향으로 탐색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             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안쪽 윤곽선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060c"/>
                </a:solidFill>
                <a:latin typeface="굴림"/>
              </a:rPr>
              <a:t>반시계 방향으로 탐색</a:t>
            </a:r>
            <a:endParaRPr b="0" lang="en-US" sz="1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B78-D449-4AE7-9403-7B5F5F3335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E114F-AB56-425D-A3A0-349CEDB9DD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윤곽선 검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픽셀 번호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인접 픽셀 검사 순서 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시계 방향으로 탐색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71600" y="2362320"/>
          <a:ext cx="2481120" cy="2339640"/>
        </p:xfrm>
        <a:graphic>
          <a:graphicData uri="http://schemas.openxmlformats.org/drawingml/2006/table">
            <a:tbl>
              <a:tblPr/>
              <a:tblGrid>
                <a:gridCol w="828360"/>
                <a:gridCol w="825480"/>
                <a:gridCol w="827280"/>
              </a:tblGrid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7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1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6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P(x, y)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5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4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3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0" y="377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53B-BCD8-4FCE-88D4-233FE45028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937B7-C358-4ADC-B1FD-FFF2D510C6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윤곽선 검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시작점의 경우 </a:t>
            </a: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0</a:t>
            </a: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번 부터 시작하여 시계 방향으로 탐색하면 이웃한 경계 픽셀을 만나게 됨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01640" y="2843280"/>
          <a:ext cx="1444680" cy="1294920"/>
        </p:xfrm>
        <a:graphic>
          <a:graphicData uri="http://schemas.openxmlformats.org/drawingml/2006/table">
            <a:tbl>
              <a:tblPr/>
              <a:tblGrid>
                <a:gridCol w="480960"/>
                <a:gridCol w="482760"/>
                <a:gridCol w="480960"/>
              </a:tblGrid>
              <a:tr h="43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0" y="377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368440" y="2852640"/>
          <a:ext cx="1444680" cy="1295280"/>
        </p:xfrm>
        <a:graphic>
          <a:graphicData uri="http://schemas.openxmlformats.org/drawingml/2006/table">
            <a:tbl>
              <a:tblPr/>
              <a:tblGrid>
                <a:gridCol w="481320"/>
                <a:gridCol w="482400"/>
                <a:gridCol w="480960"/>
              </a:tblGrid>
              <a:tr h="43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025880" y="2843280"/>
          <a:ext cx="1444680" cy="1344240"/>
        </p:xfrm>
        <a:graphic>
          <a:graphicData uri="http://schemas.openxmlformats.org/drawingml/2006/table">
            <a:tbl>
              <a:tblPr/>
              <a:tblGrid>
                <a:gridCol w="480960"/>
                <a:gridCol w="482760"/>
                <a:gridCol w="480960"/>
              </a:tblGrid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0" y="377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683320" y="2852640"/>
          <a:ext cx="1444680" cy="1315800"/>
        </p:xfrm>
        <a:graphic>
          <a:graphicData uri="http://schemas.openxmlformats.org/drawingml/2006/table">
            <a:tbl>
              <a:tblPr/>
              <a:tblGrid>
                <a:gridCol w="481320"/>
                <a:gridCol w="482400"/>
                <a:gridCol w="480960"/>
              </a:tblGrid>
              <a:tr h="43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332840" y="2824200"/>
          <a:ext cx="1444320" cy="1366560"/>
        </p:xfrm>
        <a:graphic>
          <a:graphicData uri="http://schemas.openxmlformats.org/drawingml/2006/table">
            <a:tbl>
              <a:tblPr/>
              <a:tblGrid>
                <a:gridCol w="480960"/>
                <a:gridCol w="482400"/>
                <a:gridCol w="480960"/>
              </a:tblGrid>
              <a:tr h="45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0" y="377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FA1-0072-4695-BD6D-46909B60AF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86269-6FF9-45D1-B401-495F66A8D7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윤곽선 검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인접 픽셀의 검사 시작 위치 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현재까지 가장자리 픽셀을 탐색해온 방향에 따라 다르게 결정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55720" y="3097080"/>
          <a:ext cx="5558040" cy="3286080"/>
        </p:xfrm>
        <a:graphic>
          <a:graphicData uri="http://schemas.openxmlformats.org/drawingml/2006/table">
            <a:tbl>
              <a:tblPr/>
              <a:tblGrid>
                <a:gridCol w="3024360"/>
                <a:gridCol w="2533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가장자리 픽셀 발견 위치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다음 검사 시작 위치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0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7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1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7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2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1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3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1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4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3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5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3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6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5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7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"/>
                        </a:rPr>
                        <a:t>5</a:t>
                      </a:r>
                      <a:endParaRPr b="0" lang="en-US" sz="1800" spc="-1" strike="noStrike">
                        <a:solidFill>
                          <a:srgbClr val="00060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0" y="445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영상처리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8CC-CDD5-4AE6-854D-1C7B4C0189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60BC4-C430-4B86-A6BF-6C8B9082F3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30T01:52:59Z</dcterms:created>
  <dc:creator>김학수</dc:creator>
  <dc:description/>
  <dc:language>en-US</dc:language>
  <cp:lastModifiedBy>정성태</cp:lastModifiedBy>
  <dcterms:modified xsi:type="dcterms:W3CDTF">2007-03-08T01:17:53Z</dcterms:modified>
  <cp:revision>80</cp:revision>
  <dc:subject/>
  <dc:title>영상압축</dc:title>
</cp:coreProperties>
</file>