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049-5961-41AA-BD9B-30059439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02D-8862-4211-91D6-963C729A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618-E3AD-45CD-8587-AD810FC5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F0B-0277-428E-B0A3-FA8FCCC7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6C46-EDD4-45AE-BAF4-0729E169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5ED8-B5C1-4354-9DA0-7CFA59AC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77D5-8622-4462-AE1D-FDEB33DE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5A1D-35A5-4119-B6A1-D75F26C3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9459-9CC1-4278-B110-22919C9F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93680" y="284040"/>
            <a:ext cx="777240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D4A0-115A-4463-93B6-EB54F2C1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F841-71A5-4E84-A77B-A56BA76F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7C0-FF5F-4088-BCB5-33BB7FB0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7D84-5BB5-42B7-B03B-135F0A51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03D7-C68B-4C3D-A80F-D8C60C3E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3D8D-A0ED-4CA2-A9F2-4525E40C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C397-D0AD-4544-A390-6171B050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CD48-3E88-436A-8DE9-3228CBD3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457-599E-49AF-872C-7EFFFEB9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CF7F-343A-44B9-B660-3E3D70A3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BA4-67F6-433F-8426-E1632F64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93680" y="284040"/>
            <a:ext cx="777240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8F8-202D-4A35-BE18-B767F905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5C90-61C2-486F-8FBF-78E7F5C8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B2E-E865-4248-BFAE-8356A6EF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012-DA58-4BF9-A268-DE33BAF1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060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060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060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60c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83DC-697B-4E46-A14D-C83495EB4052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60c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60c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219320"/>
            <a:ext cx="8458200" cy="87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447920"/>
          </a:xfrm>
          <a:prstGeom prst="rect">
            <a:avLst/>
          </a:prstGeom>
          <a:solidFill>
            <a:srgbClr val="64b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933480" cy="76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01000" y="6248160"/>
            <a:ext cx="533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60c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91AB-2D26-454D-89F2-7EB8D4B36E14}" type="slidenum">
              <a:rPr b="0" lang="ko-KR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34520" y="6553080"/>
            <a:ext cx="533160" cy="76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60c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0DAE-7D81-4259-8ABD-5522670972DD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60c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60c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60c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578F-D8E7-4259-9BCB-BCAAC40BD324}" type="slidenum">
              <a:rPr b="0" lang="ko-KR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914400" algn="ctr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3" marL="1371600" algn="ctr">
              <a:spcBef>
                <a:spcPts val="451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60c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00060c"/>
              </a:buClr>
              <a:buFont typeface="굴림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60c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00060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60c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00060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60c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7.png"/><Relationship Id="rId1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0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png"/><Relationship Id="rId17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9.png"/><Relationship Id="rId10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ko-KR" sz="4000" spc="-1" strike="noStrike">
                <a:solidFill>
                  <a:srgbClr val="ffffff"/>
                </a:solidFill>
                <a:latin typeface="굴림"/>
              </a:rPr>
              <a:t>12 </a:t>
            </a:r>
            <a:r>
              <a:rPr b="0" lang="ko-KR" sz="4000" spc="-1" strike="noStrike">
                <a:solidFill>
                  <a:srgbClr val="ffffff"/>
                </a:solidFill>
                <a:latin typeface="굴림"/>
              </a:rPr>
              <a:t>장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패턴 인식 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추가적인 고려 사항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카메라의 위치에 따라서 마커의 형태가 정사각형이 아닌 다른 형태로 변형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마커 영상이 정사각형이 아닌 경우 표준 패턴과 비교 불가능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54280" y="3941640"/>
            <a:ext cx="2922480" cy="2192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313320" y="4327560"/>
            <a:ext cx="457200" cy="752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697360" y="5214240"/>
            <a:ext cx="16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Times New Roman"/>
              </a:rPr>
              <a:t>추출된 사각형 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Times New Roman"/>
              </a:rPr>
              <a:t>마커 영역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309-FB32-42EB-9704-0B492BBB2B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78892-6424-4C69-B0C8-E3ED8F9E01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사각형 마커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97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워핑을 이용하여 표준 패턴 형태로 변환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051000" y="2179800"/>
          <a:ext cx="2457720" cy="136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1000" y="2179800"/>
                    <a:ext cx="245772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513240" y="4394160"/>
            <a:ext cx="457200" cy="752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93280" y="52801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Times New Roman"/>
              </a:rPr>
              <a:t>워핑 결과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565280" y="4384800"/>
            <a:ext cx="457200" cy="752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49320" y="5271480"/>
            <a:ext cx="16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Times New Roman"/>
              </a:rPr>
              <a:t>추출된 사각형 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Times New Roman"/>
              </a:rPr>
              <a:t>마커 영역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7572240" y="4438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5402160" y="44686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89520" y="5268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Times New Roman"/>
              </a:rPr>
              <a:t>표준 마커 크기로 변환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90240" y="5237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Times New Roman"/>
              </a:rPr>
              <a:t>이진영상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45120" y="343836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Times New Roman"/>
                <a:ea typeface="굴림"/>
              </a:rPr>
              <a:t>위핑시에 사용하는 제어선 설정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721-1A6C-4943-9342-8F45E6808B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75D77-FD7D-4DE3-A41B-602B89E3B2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사각형 마커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표준 패턴이 여러 개인 경우 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각 부류별로 표준 패턴이 여러 개씩 존재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NN(Nearest Neighbor)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방법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451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표준 패턴들 중에서 입력 가장 거리가 가까운 것을 선택하여 입력 패턴의 부류를 결정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k-NN(Nearest Neighbor)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방법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451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입력 패턴과 모든 표준 패턴들과의 거리를 구한 다음에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거리가 가까운 상위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k-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개의 표준 패턴을 선정하고 이들 중 가장 많은 수의 패턴들이 포함된 부류를 선택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9192-54BD-4129-9A41-8E81893192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08150-0352-402F-A563-9F2A6AE3A2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 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주성분 분석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고차원 특징 벡터를 몇 개의 주성분 값으로 나타내어 저차원의 특징 벡터로 표현해 주는 방식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데이터의 차원을 축소시킴으로써 처리 속도 증가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85760" y="4060800"/>
            <a:ext cx="4400640" cy="2009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33960" y="607860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Times New Roman"/>
              </a:rPr>
              <a:t>2</a:t>
            </a:r>
            <a:r>
              <a:rPr b="0" lang="ko-KR" sz="1800" spc="-1" strike="noStrike">
                <a:solidFill>
                  <a:srgbClr val="00060c"/>
                </a:solidFill>
                <a:latin typeface="Times New Roman"/>
              </a:rPr>
              <a:t>차원 데이터 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74040" y="533700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60c"/>
                </a:solidFill>
                <a:latin typeface="Times New Roman"/>
              </a:rPr>
              <a:t>주성분축 </a:t>
            </a:r>
            <a:r>
              <a:rPr b="0" lang="ko-KR" sz="1600" spc="-1" strike="noStrike">
                <a:solidFill>
                  <a:srgbClr val="00060c"/>
                </a:solidFill>
                <a:latin typeface="Times New Roman"/>
              </a:rPr>
              <a:t>: X’, Y’</a:t>
            </a:r>
            <a:r>
              <a:rPr b="0" lang="ko-KR" sz="1600" spc="-1" strike="noStrike">
                <a:solidFill>
                  <a:srgbClr val="00060c"/>
                </a:solidFill>
                <a:latin typeface="Times New Roman"/>
              </a:rPr>
              <a:t>에 투영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155000" y="4586040"/>
            <a:ext cx="987120" cy="7966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155440" y="42102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60c"/>
                </a:solidFill>
                <a:latin typeface="Times New Roman"/>
              </a:rPr>
              <a:t>X’</a:t>
            </a: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18400" y="4916520"/>
            <a:ext cx="42840" cy="44280"/>
          </a:xfrm>
          <a:prstGeom prst="ellipse">
            <a:avLst/>
          </a:prstGeom>
          <a:solidFill>
            <a:srgbClr val="00060c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34400" y="4711680"/>
            <a:ext cx="42840" cy="44640"/>
          </a:xfrm>
          <a:prstGeom prst="ellipse">
            <a:avLst/>
          </a:prstGeom>
          <a:solidFill>
            <a:srgbClr val="00060c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48720" y="4792680"/>
            <a:ext cx="42840" cy="44280"/>
          </a:xfrm>
          <a:prstGeom prst="ellipse">
            <a:avLst/>
          </a:prstGeom>
          <a:solidFill>
            <a:srgbClr val="00060c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59720" y="4952880"/>
            <a:ext cx="42840" cy="44640"/>
          </a:xfrm>
          <a:prstGeom prst="ellipse">
            <a:avLst/>
          </a:prstGeom>
          <a:solidFill>
            <a:srgbClr val="00060c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50200" y="5132520"/>
            <a:ext cx="42840" cy="44280"/>
          </a:xfrm>
          <a:prstGeom prst="ellipse">
            <a:avLst/>
          </a:prstGeom>
          <a:solidFill>
            <a:srgbClr val="00060c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66200" y="4927680"/>
            <a:ext cx="42840" cy="44280"/>
          </a:xfrm>
          <a:prstGeom prst="ellipse">
            <a:avLst/>
          </a:prstGeom>
          <a:solidFill>
            <a:srgbClr val="00060c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80160" y="5008680"/>
            <a:ext cx="42840" cy="44280"/>
          </a:xfrm>
          <a:prstGeom prst="ellipse">
            <a:avLst/>
          </a:prstGeom>
          <a:solidFill>
            <a:srgbClr val="00060c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5168880"/>
            <a:ext cx="42840" cy="44640"/>
          </a:xfrm>
          <a:prstGeom prst="ellipse">
            <a:avLst/>
          </a:prstGeom>
          <a:solidFill>
            <a:srgbClr val="00060c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66200" y="4959360"/>
            <a:ext cx="42840" cy="44280"/>
          </a:xfrm>
          <a:prstGeom prst="ellipse">
            <a:avLst/>
          </a:prstGeom>
          <a:solidFill>
            <a:srgbClr val="00060c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81840" y="4754520"/>
            <a:ext cx="42840" cy="44640"/>
          </a:xfrm>
          <a:prstGeom prst="ellipse">
            <a:avLst/>
          </a:prstGeom>
          <a:solidFill>
            <a:srgbClr val="00060c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96160" y="4835520"/>
            <a:ext cx="42840" cy="44280"/>
          </a:xfrm>
          <a:prstGeom prst="ellipse">
            <a:avLst/>
          </a:prstGeom>
          <a:solidFill>
            <a:srgbClr val="00060c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4995720"/>
            <a:ext cx="42840" cy="44640"/>
          </a:xfrm>
          <a:prstGeom prst="ellipse">
            <a:avLst/>
          </a:prstGeom>
          <a:solidFill>
            <a:srgbClr val="00060c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381800" y="5183280"/>
            <a:ext cx="42840" cy="44280"/>
          </a:xfrm>
          <a:prstGeom prst="ellipse">
            <a:avLst/>
          </a:prstGeom>
          <a:solidFill>
            <a:srgbClr val="00060c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97800" y="4978440"/>
            <a:ext cx="42840" cy="44280"/>
          </a:xfrm>
          <a:prstGeom prst="ellipse">
            <a:avLst/>
          </a:prstGeom>
          <a:solidFill>
            <a:srgbClr val="00060c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12120" y="5059440"/>
            <a:ext cx="42840" cy="44280"/>
          </a:xfrm>
          <a:prstGeom prst="ellipse">
            <a:avLst/>
          </a:prstGeom>
          <a:solidFill>
            <a:srgbClr val="00060c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23120" y="5219640"/>
            <a:ext cx="42840" cy="44640"/>
          </a:xfrm>
          <a:prstGeom prst="ellipse">
            <a:avLst/>
          </a:prstGeom>
          <a:solidFill>
            <a:srgbClr val="00060c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28520" y="558468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60c"/>
                </a:solidFill>
                <a:latin typeface="Times New Roman"/>
              </a:rPr>
              <a:t>차원 데이터 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16640" y="4653000"/>
            <a:ext cx="549360" cy="446040"/>
          </a:xfrm>
          <a:prstGeom prst="rightArrow">
            <a:avLst>
              <a:gd name="adj1" fmla="val 50000"/>
              <a:gd name="adj2" fmla="val 30791"/>
            </a:avLst>
          </a:prstGeom>
          <a:solidFill>
            <a:srgbClr val="cae6e1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39160" y="4181400"/>
            <a:ext cx="80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비중이 낮은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축 제거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684-1AE9-4A65-84CD-FA4C226D95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1D7F8-0DB7-4CBF-AD93-F6F0D53D2B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주성분 분석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특징 벡터의 분포를 분석하여 주성분 축을 구하는 과정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기준 축에 대하여 특징 벡터의 변화가 어떻게 일어나는지를 분석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두 개 이상의 변량 데이터가 주어질 경우에 각 변량 간의 변화하는 양상을 나타내는 통계적인 척도인 공분산을 이용하여 구할 수 있음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138-B7D3-4297-A60A-E37A1C5FD7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0F838-DD26-42ED-AD51-3F3B1F5C5E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219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공분산 계산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두 변량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X, Y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에 대하여 표본 데이터가 다음과 같이 주어졌다고 가정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표본 데이터의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X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성분 평균과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Y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성분 평균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두 변량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X, Y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사이의 공분산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916520" y="2176560"/>
          <a:ext cx="3809880" cy="60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16520" y="2176560"/>
                    <a:ext cx="380988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919760" y="3522600"/>
          <a:ext cx="3809880" cy="121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19760" y="3522600"/>
                    <a:ext cx="38098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5016600" y="5040360"/>
          <a:ext cx="3187440" cy="73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6600" y="5040360"/>
                    <a:ext cx="318744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9B5-2380-4F85-8F94-8A865F26DC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FB590-9251-45F8-ACC9-2F552876D1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94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다음과 같은 패턴이 주어진 경우의 공분산 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16000" y="2104920"/>
          <a:ext cx="2560680" cy="22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2104920"/>
                    <a:ext cx="25606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025800" y="2373480"/>
          <a:ext cx="6118200" cy="128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25800" y="2373480"/>
                    <a:ext cx="61182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048120" y="4495680"/>
          <a:ext cx="6095880" cy="140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4495680"/>
                    <a:ext cx="609588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07800" y="4156200"/>
          <a:ext cx="2530800" cy="2214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7800" y="4156200"/>
                    <a:ext cx="253080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828880" y="3745080"/>
            <a:ext cx="63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(</a:t>
            </a: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공분산 값이 </a:t>
            </a: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0</a:t>
            </a: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보다 크면 </a:t>
            </a: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X </a:t>
            </a: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값이 증가할 때에 </a:t>
            </a: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Y </a:t>
            </a: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값 증가</a:t>
            </a: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10360" y="5875200"/>
            <a:ext cx="45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(</a:t>
            </a: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공분산 값이 </a:t>
            </a: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0</a:t>
            </a: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보다 작으면 </a:t>
            </a: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X </a:t>
            </a: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값이 증가할 때에 </a:t>
            </a: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Y </a:t>
            </a: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값 감소</a:t>
            </a:r>
            <a:r>
              <a:rPr b="1" lang="ko-KR" sz="1800" spc="-1" strike="noStrike">
                <a:solidFill>
                  <a:srgbClr val="00060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307-00ED-41BD-9982-C8463F126AA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724A1-3D02-42EC-BBDB-97C45203DE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35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공분산 행렬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데이터가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N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차원일 때에 각 차원 사이의 공분산 값이 다음과 같이 구성된 행렬 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20880" y="2970360"/>
          <a:ext cx="2452680" cy="148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0880" y="2970360"/>
                    <a:ext cx="245268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460680" y="3475080"/>
          <a:ext cx="5478480" cy="3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60680" y="3475080"/>
                    <a:ext cx="54784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12E-CFCA-46E4-9293-41B06B211D4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953C1-A805-4688-8798-6D718E816A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3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고유 벡터와 고유 값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공분산 행렬로부터 고유 벡터와 고유 값을 구함으로써 주성분 축을 구할 수 있음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행렬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A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가 정방 행렬이고</a:t>
            </a:r>
            <a:br>
              <a:rPr sz="2000"/>
            </a:b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다음 관계를 만족하는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x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를 고유벡터라하고 </a:t>
            </a:r>
            <a:r>
              <a:rPr b="0" lang="el-GR" sz="2000" spc="-1" strike="noStrike">
                <a:solidFill>
                  <a:srgbClr val="00060c"/>
                </a:solidFill>
                <a:latin typeface="굴림"/>
              </a:rPr>
              <a:t>λ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를 고유값이라 함  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330800" y="3108240"/>
                <a:ext cx="32162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인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벡터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가</m:t>
                    </m:r>
                    <m:r>
                      <m:rPr>
                        <m:lit/>
                        <m:nor/>
                      </m:rPr>
                      <m:t xml:space="preserve">존재할</m:t>
                    </m:r>
                    <m:r>
                      <m:rPr>
                        <m:lit/>
                        <m:nor/>
                      </m:rPr>
                      <m:t xml:space="preserve">때에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4" name=""/>
          <p:cNvGraphicFramePr/>
          <p:nvPr/>
        </p:nvGraphicFramePr>
        <p:xfrm>
          <a:off x="1951200" y="3930480"/>
          <a:ext cx="184608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51200" y="3930480"/>
                    <a:ext cx="18460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658-68F8-434D-BBAA-A6063B5DAD1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16B80-E3A6-4C96-8A98-4D1ECF4C9B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81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공분산 행렬의 경우에         를 만족하므로 대칭 행렬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대칭  행렬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고유 벡터들과 고유 값이 각각 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N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개씩 존재하고 고유 벡터들은 서로 직교하게 되어 주성분 축으로 사용될 수 있음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024440" y="1636560"/>
          <a:ext cx="949320" cy="4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24440" y="1636560"/>
                    <a:ext cx="9493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F52-7B1A-4523-9688-BF167E8FE2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839B1-B1A1-4270-AADA-955F160C5C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사각형 마커 인식 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사각형 마커 인식 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사각형 마커에 의미를 부여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로봇이나 컴퓨터가 입력 영상으로부터 사각형 마커를 검출하고 인식하게 함으로써 상황을 인식하거나 정보를 취득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사각형 마커의 예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865160" y="4560840"/>
            <a:ext cx="3467160" cy="1305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874120" y="496404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각 마커의 크기 </a:t>
            </a: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: 64 x 64</a:t>
            </a: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E26-64BF-47AB-B286-0EA9C0DF6A0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1081F-3CFF-46A7-8A67-BF2866E4AB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고유 값은 각 고유 벡터 방향으로의 분산 정도를 나타냄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고유 값이 클수록 해당 축 상으로 데이터가 널리 퍼져 있어서 보다 중요한 축으로 사용될 수 있다는 것을 의미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고유 벡터와 고유 값을 구한 다음에 큰 고유 값을 갖는 고유 벡터만 남기고 데이터를 투영함으로써 차원 축소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167-4F87-4A50-97B6-31F7CE55DA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DD623-F88A-4235-AE93-7BA01668B4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공분산 행렬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고유벡터와 고유값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03800" y="1393920"/>
          <a:ext cx="2778120" cy="24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03800" y="1393920"/>
                    <a:ext cx="277812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090440" y="2081160"/>
          <a:ext cx="1913040" cy="89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0440" y="2081160"/>
                    <a:ext cx="19130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114560" y="3373560"/>
          <a:ext cx="5121000" cy="101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4560" y="3373560"/>
                    <a:ext cx="512100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255680" y="4703760"/>
          <a:ext cx="5678640" cy="157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5680" y="4703760"/>
                    <a:ext cx="567864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70A-1206-40B3-BFEC-B39698028FF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87D4A-4494-4FE6-8E45-6177398B17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공분산 행렬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고유벡터와 고유값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46320" y="2060640"/>
          <a:ext cx="2477880" cy="87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6320" y="2060640"/>
                    <a:ext cx="24778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249200" y="3606840"/>
          <a:ext cx="4992840" cy="75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49200" y="3606840"/>
                    <a:ext cx="49928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119240" y="4648320"/>
          <a:ext cx="6799320" cy="163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9240" y="4648320"/>
                    <a:ext cx="679932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189840" y="1386000"/>
          <a:ext cx="2530440" cy="22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89840" y="1386000"/>
                    <a:ext cx="253044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5AB-4920-412D-92DA-13943A74569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DB745-B6D1-47ED-A563-09B756433A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898800" y="1477800"/>
          <a:ext cx="253368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8800" y="1477800"/>
                    <a:ext cx="25336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014720" y="4070520"/>
          <a:ext cx="268920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4720" y="4070520"/>
                    <a:ext cx="26892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341280" y="3962520"/>
          <a:ext cx="252432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280" y="3962520"/>
                    <a:ext cx="25243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231840" y="1341360"/>
          <a:ext cx="2477880" cy="221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1840" y="1341360"/>
                    <a:ext cx="24778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7104240" y="5216400"/>
          <a:ext cx="1238040" cy="75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04240" y="5216400"/>
                    <a:ext cx="12380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7058160" y="4368960"/>
          <a:ext cx="1211040" cy="819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58160" y="4368960"/>
                    <a:ext cx="1211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7107120" y="2403360"/>
          <a:ext cx="1246320" cy="1014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07120" y="2403360"/>
                    <a:ext cx="12463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7037280" y="1542960"/>
          <a:ext cx="1108080" cy="1014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37280" y="1542960"/>
                    <a:ext cx="1108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3057480" y="2416320"/>
            <a:ext cx="573120" cy="517320"/>
          </a:xfrm>
          <a:prstGeom prst="rightArrow">
            <a:avLst>
              <a:gd name="adj1" fmla="val 50000"/>
              <a:gd name="adj2" fmla="val 27697"/>
            </a:avLst>
          </a:prstGeom>
          <a:solidFill>
            <a:srgbClr val="cae6e1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95640" y="4870440"/>
            <a:ext cx="573120" cy="517680"/>
          </a:xfrm>
          <a:prstGeom prst="rightArrow">
            <a:avLst>
              <a:gd name="adj1" fmla="val 50000"/>
              <a:gd name="adj2" fmla="val 27677"/>
            </a:avLst>
          </a:prstGeom>
          <a:solidFill>
            <a:srgbClr val="cae6e1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4D0-5A16-4878-9F4C-1D607C7E9CA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B65DC-88CF-412D-A976-45131270BD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얼굴 인식에 적용 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영국 캠브리지 대학에서 제작한 얼굴 데이터베이스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주성분 분석에는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40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명에 대하여 각각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번씩 촬영한 영상 사용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057400" y="3135240"/>
            <a:ext cx="4559400" cy="29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094-AE99-4483-B374-5AB5F63602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36D6B-B62A-4EBF-A7B1-CE6AD1AB99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인식 실험에는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40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명에 대한 한장씩의 영상 사용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684440" y="2400480"/>
            <a:ext cx="5308560" cy="39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73F-DE9A-4BB2-AC14-2F0FE2BB09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DB39B-B2EE-46C3-B5F7-1D3ED521F5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주성분 분석에 사용될 얼굴 영상에 대한 공분산 행렬을 구하기 위해서는 전체 얼굴 영상을 하나의 행렬로 표현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각 영상의 픽셀 값들을 맨 윗줄부터 한 줄씩 순서대로 나열하여 열벡터를 생성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열 벡터들을 모아서 하나의 행렬  </a:t>
            </a:r>
            <a:r>
              <a:rPr b="1" i="1" lang="ko-KR" sz="2400" spc="-1" strike="noStrike">
                <a:solidFill>
                  <a:srgbClr val="00060c"/>
                </a:solidFill>
                <a:latin typeface="굴림"/>
              </a:rPr>
              <a:t>S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를 생성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생성된 행렬의 크기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= 10304 x 360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각 영상의 크기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= 92 x 112 = 10304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전체 영상 수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= 360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40B-0986-43CE-A1DD-CD8C754FB8A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734EB-2212-4634-81EC-07D6A39CB2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행렬 </a:t>
            </a:r>
            <a:r>
              <a:rPr b="1" i="1" lang="ko-KR" sz="2400" spc="-1" strike="noStrike">
                <a:solidFill>
                  <a:srgbClr val="00060c"/>
                </a:solidFill>
                <a:latin typeface="굴림"/>
              </a:rPr>
              <a:t>S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평균 얼굴 벡터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325520" y="2344680"/>
          <a:ext cx="2673360" cy="55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25520" y="2344680"/>
                    <a:ext cx="267336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797360" y="2513160"/>
          <a:ext cx="381024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7360" y="2513160"/>
                    <a:ext cx="3810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1365120" y="3979800"/>
          <a:ext cx="2428920" cy="119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65120" y="3979800"/>
                    <a:ext cx="2428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7" name="" descr=""/>
          <p:cNvPicPr/>
          <p:nvPr/>
        </p:nvPicPr>
        <p:blipFill>
          <a:blip r:embed="rId9"/>
          <a:stretch/>
        </p:blipFill>
        <p:spPr>
          <a:xfrm>
            <a:off x="5281560" y="3878280"/>
            <a:ext cx="1327320" cy="16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C0F-840D-48D3-9583-5252E6708A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DD425-61CC-4581-9882-F88624566B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3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각 영상에서 평균 얼굴 영상을 뺌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공분산 행렬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306440" y="2417760"/>
          <a:ext cx="380520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6440" y="2417760"/>
                    <a:ext cx="3805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1343160" y="4059360"/>
          <a:ext cx="1249200" cy="4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43160" y="4059360"/>
                    <a:ext cx="12492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904920" y="4137120"/>
            <a:ext cx="42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행렬 </a:t>
            </a: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C</a:t>
            </a: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의 크기 </a:t>
            </a: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: 10304 x 10304</a:t>
            </a: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60c"/>
                </a:solidFill>
                <a:latin typeface="Wingdings"/>
                <a:ea typeface="Wingdings"/>
              </a:rPr>
              <a:t></a:t>
            </a: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고유 벡터를 구하는 것은 고성능 </a:t>
            </a: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          </a:t>
            </a: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PC</a:t>
            </a: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의 경우에도 여러 날 이상이 소요 </a:t>
            </a: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A96-1A0E-4777-8407-CCA5DDAA9F4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0710C-38D0-49D2-AE1F-19004621A5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02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행렬 </a:t>
            </a:r>
            <a:r>
              <a:rPr b="1" i="1" lang="ko-KR" sz="2400" spc="-1" strike="noStrike">
                <a:solidFill>
                  <a:srgbClr val="00060c"/>
                </a:solidFill>
                <a:latin typeface="굴림"/>
              </a:rPr>
              <a:t>C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대신에 다음과 같은 </a:t>
            </a:r>
            <a:r>
              <a:rPr b="1" i="1" lang="ko-KR" sz="2400" spc="-1" strike="noStrike">
                <a:solidFill>
                  <a:srgbClr val="00060c"/>
                </a:solidFill>
                <a:latin typeface="굴림"/>
              </a:rPr>
              <a:t>L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을 이용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행렬 </a:t>
            </a:r>
            <a:r>
              <a:rPr b="1" i="1" lang="ko-KR" sz="2400" spc="-1" strike="noStrike">
                <a:solidFill>
                  <a:srgbClr val="00060c"/>
                </a:solidFill>
                <a:latin typeface="굴림"/>
              </a:rPr>
              <a:t>L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에 대한 고유 벡터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행렬 </a:t>
            </a:r>
            <a:r>
              <a:rPr b="1" i="1" lang="ko-KR" sz="2400" spc="-1" strike="noStrike">
                <a:solidFill>
                  <a:srgbClr val="00060c"/>
                </a:solidFill>
                <a:latin typeface="굴림"/>
              </a:rPr>
              <a:t>C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에 대한 고유 벡터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220760" y="2411280"/>
          <a:ext cx="1463760" cy="50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20760" y="2411280"/>
                    <a:ext cx="1463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063800" y="4125960"/>
          <a:ext cx="2809800" cy="39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63800" y="4125960"/>
                    <a:ext cx="28098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839880" y="5246640"/>
          <a:ext cx="1746000" cy="60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9880" y="5246640"/>
                    <a:ext cx="17460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3890160" y="2266920"/>
            <a:ext cx="346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행렬 </a:t>
            </a: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L</a:t>
            </a: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의 크기 </a:t>
            </a: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: 360 x 360</a:t>
            </a: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60c"/>
                </a:solidFill>
                <a:latin typeface="Wingdings"/>
                <a:ea typeface="Wingdings"/>
              </a:rPr>
              <a:t></a:t>
            </a: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수분내에 고유벡터 계산 가능 </a:t>
            </a: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86D-0838-4C1F-B77A-B18FD10B5E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2E3E3-083A-4D5E-B0FA-E408381B2D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사각형 마커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최소 거리 식별법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패턴을 인식하는 가장 간단한 방법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패턴을 나타내는 수치화된 값을 특징이라 함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특징 벡터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특징이 하나 이상의 수치 값을 가질 경우에는 특징 벡터라고 하는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N-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차원의 열 벡터로 나타냄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패턴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특징 벡터의 차원이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N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일 경우에 패턴은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N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차원 공간상의 한 점으로 표시될 수 있음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0C5-5876-4FDB-8160-7F8C844FEB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8DA23-4E96-4AC7-92FA-885CBD0550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6054840" y="2417760"/>
          <a:ext cx="181440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4840" y="2417760"/>
                    <a:ext cx="18144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394240" y="2052720"/>
          <a:ext cx="1795680" cy="4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4240" y="2052720"/>
                    <a:ext cx="17956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06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얼굴 인식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주성분 분석에 사용된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360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개 영상                       을 주성분 축에 투영하여 차원이 축소된 특징 벡터                       을 구함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인식 실험용 영상을 주성분 축에 투영한 다음에                         </a:t>
            </a:r>
            <a:br>
              <a:rPr sz="2000"/>
            </a:b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 와 거리를 계산하여 가장 가까운 벡터 탐색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영상을 주성분 축에 투영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924600" y="3382920"/>
          <a:ext cx="1814760" cy="39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24600" y="3382920"/>
                    <a:ext cx="18147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608120" y="4981680"/>
          <a:ext cx="1697040" cy="965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8120" y="4981680"/>
                    <a:ext cx="16970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667-F649-4993-9B7A-93BFC85DA46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CEB57-704D-439C-831F-23905A20DD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31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영상 복원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고유 벡터 행렬 </a:t>
            </a:r>
            <a:r>
              <a:rPr b="1" i="1" lang="ko-KR" sz="2000" spc="-1" strike="noStrike">
                <a:solidFill>
                  <a:srgbClr val="00060c"/>
                </a:solidFill>
                <a:latin typeface="굴림"/>
              </a:rPr>
              <a:t>V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와 </a:t>
            </a:r>
            <a:r>
              <a:rPr b="1" i="1" lang="ko-KR" sz="2000" spc="-1" strike="noStrike">
                <a:solidFill>
                  <a:srgbClr val="00060c"/>
                </a:solidFill>
                <a:latin typeface="굴림"/>
              </a:rPr>
              <a:t>K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차원의 특징 벡터 </a:t>
            </a:r>
            <a:r>
              <a:rPr b="1" i="1" lang="ko-KR" sz="2000" spc="-1" strike="noStrike">
                <a:solidFill>
                  <a:srgbClr val="00060c"/>
                </a:solidFill>
                <a:latin typeface="굴림"/>
              </a:rPr>
              <a:t>Z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로부터 영상 복원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500120" y="2494080"/>
          <a:ext cx="1454040" cy="83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0120" y="2494080"/>
                    <a:ext cx="14540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36480" y="3956040"/>
          <a:ext cx="8112240" cy="163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6480" y="3956040"/>
                    <a:ext cx="811224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89D-EECD-494D-B868-0699BBDC3B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75D84-29E7-4FBA-AC97-2545E20C9D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주성분 분석을 이용한 얼굴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89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주성분 분석에서 구한 고유 벡터를 영상으로 출력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822320" y="2236680"/>
          <a:ext cx="5857920" cy="410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2320" y="2236680"/>
                    <a:ext cx="585792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275-6836-4DFD-BCDC-66446948523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78E15-8C77-4AC4-970B-E7504C63C6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사각형 마커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최소 거리 식별법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N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차원 공간상에서 두 가지 패턴을 나타내는 점 사이의 거리가 가까울수록 두 개의 패턴이 유사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66840" y="3071880"/>
          <a:ext cx="3810240" cy="27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6840" y="3071880"/>
                    <a:ext cx="381024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8C2-F96D-4C7B-8C61-FD360669A3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2DBF5-DFF2-4A19-8E45-2625DE9D31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995560" y="3165480"/>
          <a:ext cx="42228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5560" y="3165480"/>
                    <a:ext cx="4222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982880" y="3156120"/>
          <a:ext cx="48096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2880" y="3156120"/>
                    <a:ext cx="4809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사각형 마커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913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각 부류별 표준 패턴이 하나인 경우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M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개의 부류가 있다고 가정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41480" y="2448000"/>
          <a:ext cx="1754280" cy="4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41480" y="2448000"/>
                    <a:ext cx="17542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1814400" y="3862440"/>
            <a:ext cx="3467160" cy="1305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26080" y="535464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Times New Roman"/>
              </a:rPr>
              <a:t>표준 패턴들의 예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004840" y="3549600"/>
            <a:ext cx="204840" cy="2635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841480" y="3530520"/>
            <a:ext cx="204840" cy="2635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65440" y="3127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60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10360" y="4727520"/>
            <a:ext cx="204480" cy="2635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530680" y="4506840"/>
          <a:ext cx="459000" cy="422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30680" y="4506840"/>
                    <a:ext cx="4590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C53-D2DA-4053-8A07-2673B1D8A8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CDD27-ADE2-4FB7-9F6F-CD0B68C1B8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사각형 마커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913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각 부류별 표준 패턴이 하나인 경우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부류 </a:t>
            </a:r>
            <a:r>
              <a:rPr b="0" i="1" lang="ko-KR" sz="2000" spc="-1" strike="noStrike">
                <a:solidFill>
                  <a:srgbClr val="00060c"/>
                </a:solidFill>
                <a:latin typeface="굴림"/>
              </a:rPr>
              <a:t>w</a:t>
            </a:r>
            <a:r>
              <a:rPr b="0" i="1" lang="ko-KR" sz="2000" spc="-1" strike="noStrike" baseline="-25000">
                <a:solidFill>
                  <a:srgbClr val="00060c"/>
                </a:solidFill>
                <a:latin typeface="굴림"/>
              </a:rPr>
              <a:t>i </a:t>
            </a:r>
            <a:r>
              <a:rPr b="0" i="1" lang="ko-KR" sz="2000" spc="-1" strike="noStrike">
                <a:solidFill>
                  <a:srgbClr val="00060c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를 대표하는 표준 패턴을 </a:t>
            </a:r>
            <a:r>
              <a:rPr b="0" i="1" lang="ko-KR" sz="2000" spc="-1" strike="noStrike">
                <a:solidFill>
                  <a:srgbClr val="00060c"/>
                </a:solidFill>
                <a:latin typeface="굴림"/>
              </a:rPr>
              <a:t>y</a:t>
            </a:r>
            <a:r>
              <a:rPr b="0" i="1" lang="ko-KR" sz="2000" spc="-1" strike="noStrike" baseline="-25000">
                <a:solidFill>
                  <a:srgbClr val="00060c"/>
                </a:solidFill>
                <a:latin typeface="굴림"/>
              </a:rPr>
              <a:t>i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라 하고 입력 패턴을 </a:t>
            </a:r>
            <a:r>
              <a:rPr b="0" i="1" lang="ko-KR" sz="2000" spc="-1" strike="noStrike">
                <a:solidFill>
                  <a:srgbClr val="00060c"/>
                </a:solidFill>
                <a:latin typeface="굴림"/>
              </a:rPr>
              <a:t>x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라 라고 할 때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부류 </a:t>
            </a:r>
            <a:r>
              <a:rPr b="0" i="1" lang="ko-KR" sz="2000" spc="-1" strike="noStrike">
                <a:solidFill>
                  <a:srgbClr val="00060c"/>
                </a:solidFill>
                <a:latin typeface="굴림"/>
              </a:rPr>
              <a:t>w</a:t>
            </a:r>
            <a:r>
              <a:rPr b="0" i="1" lang="ko-KR" sz="2000" spc="-1" strike="noStrike" baseline="-25000">
                <a:solidFill>
                  <a:srgbClr val="00060c"/>
                </a:solidFill>
                <a:latin typeface="굴림"/>
              </a:rPr>
              <a:t>i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와 입력 패턴 </a:t>
            </a:r>
            <a:r>
              <a:rPr b="0" i="1" lang="ko-KR" sz="2000" spc="-1" strike="noStrike">
                <a:solidFill>
                  <a:srgbClr val="00060c"/>
                </a:solidFill>
                <a:latin typeface="굴림"/>
              </a:rPr>
              <a:t>x 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사이의</a:t>
            </a:r>
            <a:r>
              <a:rPr b="0" i="1" lang="ko-KR" sz="2000" spc="-1" strike="noStrike">
                <a:solidFill>
                  <a:srgbClr val="00060c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최소 거리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814400" y="2948040"/>
          <a:ext cx="4572000" cy="3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4400" y="2948040"/>
                    <a:ext cx="45720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976400" y="4361040"/>
          <a:ext cx="2797200" cy="1091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76400" y="4361040"/>
                    <a:ext cx="2797200" cy="10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AB0-A272-42E6-9B69-DAEF9DE4E1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B904B-995C-41B7-AD94-184ED992C2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사각형 마커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사각형 마커 검출 및 인식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기하학적 특징을 이용하여 입력 영상에서 사각형을 검출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입력 영상에서 사각형 영역 추출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55920" y="354024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449080" y="58467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입력 영상</a:t>
            </a: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562800" y="4316400"/>
            <a:ext cx="495360" cy="476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562720" y="493236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추출된 사각형 영역 영상</a:t>
            </a: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9DB-C20A-44CF-9E78-C449B884CA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AC46B-8344-4763-B326-FAD5521964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사각형 마커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표준 마커 크기인 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64 x 64 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크기로 변환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영상을 이진화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391440" y="26431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417760" y="2776680"/>
            <a:ext cx="495360" cy="476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01840" y="355428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Times New Roman"/>
              </a:rPr>
              <a:t>추출된 사각형 영역 영상</a:t>
            </a:r>
            <a:endParaRPr b="0" lang="en-US" sz="20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0640" y="3506760"/>
            <a:ext cx="24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Times New Roman"/>
              </a:rPr>
              <a:t>64 x 64 </a:t>
            </a:r>
            <a:r>
              <a:rPr b="0" lang="ko-KR" sz="2000" spc="-1" strike="noStrike">
                <a:solidFill>
                  <a:srgbClr val="00060c"/>
                </a:solidFill>
                <a:latin typeface="Times New Roman"/>
              </a:rPr>
              <a:t>크기로 변환된 영상</a:t>
            </a:r>
            <a:endParaRPr b="0" lang="en-US" sz="20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411280" y="494676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100960" y="56926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Times New Roman"/>
              </a:rPr>
              <a:t>이진화된 영상</a:t>
            </a:r>
            <a:endParaRPr b="0" lang="en-US" sz="20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F52-B51D-4B93-A9C7-24F0A781B2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58A1E-17BB-41B2-A38E-95D33114FD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사각형 마커 인식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이진화된 영상과 표준 마커를 최소거리 식별법으로 비교하여 마커 인식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05440" y="3205080"/>
            <a:ext cx="3466800" cy="1305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009880" y="35211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699200" y="42670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Times New Roman"/>
              </a:rPr>
              <a:t>이진화된 영상</a:t>
            </a:r>
            <a:endParaRPr b="0" lang="en-US" sz="20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29880" y="46832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Times New Roman"/>
              </a:rPr>
              <a:t>표준 마커</a:t>
            </a:r>
            <a:endParaRPr b="0" lang="en-US" sz="20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20E-041E-44FA-B9F0-36950136EF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6AFC0-11C5-4BA8-B8DB-D93AD9E6A3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30T01:52:59Z</dcterms:created>
  <dc:creator>김학수</dc:creator>
  <dc:description/>
  <dc:language>en-US</dc:language>
  <cp:lastModifiedBy>정성태</cp:lastModifiedBy>
  <dcterms:modified xsi:type="dcterms:W3CDTF">2007-03-08T01:18:58Z</dcterms:modified>
  <cp:revision>111</cp:revision>
  <dc:subject/>
  <dc:title>영상압축</dc:title>
</cp:coreProperties>
</file>